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dt" idx="4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move the slide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 type="sldNum" idx="45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9A57-4F12-4BB5-AFAF-9629AEC0019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79FA5C0-BD27-49D8-BA96-5E787B5C49EB}" type="slidenum">
              <a:rPr b="0" lang="es-ES_tradnl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84160" y="78264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9F82-69EC-44AB-9D98-DF22C55224A2}" type="slidenum"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37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Arial"/>
              </a:rPr>
              <a:t>Información confiable es fundamental para la ejecución de la estrate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Arial"/>
              </a:rPr>
              <a:t>Permite el diagnóstico y monitoreo permanen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Arial"/>
              </a:rPr>
              <a:t>Identificar factores de desigualdad y riesg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Arial"/>
              </a:rPr>
              <a:t>Brindar elementos para establecer el impacto de las estrategias y de los recursos gira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Marcador de número de diapositiva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1289-EA72-4CF4-84DA-C26FA1940579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735-0AA7-4C1B-B512-E4E941BB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CD2-D92A-4E82-927E-98BBDE61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FE644-5CD6-45D5-9BF4-2F172CBC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E43BB-97A3-4336-8D62-7BD261DE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6FE4C-01B6-417D-9B34-6FD60F0A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133E4-F147-4610-B477-B4941645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E9FAE-CA4F-4101-98EB-C274EDDA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78DEB-BE34-4598-9E01-8FBDE3D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88A14-7FFC-4D9B-8E79-D2C4D6CE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204E9-03AA-4C95-8722-01E84266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7FDCE-8F90-4F88-A588-0EC15F0B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F614D-7CAE-4BA1-B906-E61CE422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BF1-D582-4565-8E06-1FEB66C8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081EE-07C3-4B6F-9850-098CD15B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ECA1E-1043-40D6-B0FF-11F02752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75EB3-8FAB-42BF-AC30-29D85BC1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D613D-F8D4-4676-9A65-F905FFFA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DCCD7-3AC8-409F-A1B5-8046D098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4A33C-83EB-47C3-8612-F1D98E1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6845F-5743-4661-9760-1D2494E0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57FB3-15A7-4A1C-BE00-DF7F601E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16F94-F553-4C18-8FEA-DC7CA7E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186AD-07DE-4470-A7C2-A7B1B70C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13B-6B76-4E04-957F-E0434DB1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F87C5-91B4-445C-BAD2-C29EDB91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9ACE7-BF5C-46A6-8280-127078FD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26EFB-0983-4216-82C1-2B4334D1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0641C-72FC-4C6F-ABBB-5FE8FE09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3D14D-CE8F-45CC-9566-5A152B57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3B503-4D10-414A-914E-CFAED399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8B2BE-1FED-46A0-BB74-F665A904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31D37-B18B-47BC-A7EC-32DA862D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25464-006D-45AD-BC0D-FBB29310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CA7CC-F1F8-48F7-A1A6-0DEEA3C8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289A3-75D4-4F92-B335-B4F9562C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FD036-05E0-404E-A6E9-78552031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71ACC-F820-483B-A8AB-DF7F5FDF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79551-E9B6-4685-8937-AB577DD2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3235C-2059-4C3D-A6EF-85843BA0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8F2F1-A872-45F8-8AEB-E462A5BC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7A00C-4369-4724-9345-287D9E6B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823FF-2E10-4CF4-938A-6EC17F4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C16E9-39A5-403E-9558-D2EE3B3C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7FBAA-B8F2-4E56-BDA5-0FED568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F0BEB-9121-4497-A574-9324730C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C8D24-3964-4A61-8D0D-2B9E4A0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55722-245E-47A1-B937-AE61EAC2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A4106-FE47-4435-8DF2-F908DBC3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E6BFD-8F11-45ED-ADE3-A9DB55DE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ED0A3-DDA7-4211-A5F4-CB61C348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E9FA6-07D7-4EA7-A18C-3EB72CBF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D4209-A934-4440-BD1A-33B454C5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4B8B1-43C5-4940-829D-6B6E928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C8144-5901-483C-A6E5-859EA9E1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D4C9F-20F4-4986-A292-06E7B410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4BBCE-640F-4A89-8E5B-495E7CD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CC8DE-2759-445E-B683-80C575A0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86704-B87D-4CE4-A168-8618AFBF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25E41-958E-41FB-8C16-0B489C67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C9DEF-CFA5-4340-8405-6B3EAA52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9151D-FB1B-45B9-899A-3971648B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A0160-C47D-48F2-ABDC-CC8409EB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74BF4-0D8D-407C-A0BD-E4404958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D3BFF-C65B-4270-BF88-ED697D07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5916F-4C93-4939-9F23-6827A4B2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0B654-B4F2-473B-915C-3729045B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C7D2B-E44F-4C9B-A5AA-EDA0ECE4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9E977-9F94-4727-8C85-F63FB02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B559D-EE45-415E-90FB-4103E7A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14605-553D-4948-8B31-2A7CBB0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23D9C-E9E4-4B95-BF7D-BEBB29BB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F78C5-6FE1-4C76-9D87-2F63C3E4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E92C9-048D-4593-8CB2-B5DDC4C3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4912F-DA6C-49E2-9362-7290551C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44015-7A6A-4A8F-81F3-F8596CA7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147DB-3562-43E2-B116-25B303E6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A271E-0329-48A1-AC73-E84918D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B4562-2E13-4465-B95C-DFF5B1E7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B4782-0776-4467-A919-DBB2D7F0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11BEE-A577-4A19-AB2E-62DA09A5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1604B-AF7F-4C72-8399-42D0A36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F557B-878E-4C5D-901B-C72D6FF3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12D8D-FF63-4D89-84F8-3909EE77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979BE-A4EE-41D7-9C52-7B56F8D1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99905-4190-41A8-95B2-0054AFDC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BEF-69A2-4C41-BD6D-36864E5B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87E4-7440-4EAE-918D-BF11B8BA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EC36-BDC0-43A6-B0F9-E464D2AE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689C-3DBA-452F-A6E5-FE5030AA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B5F1-9B07-41C3-84AC-513A8D7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4775-79A5-4F9D-9B2E-443BACD4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C30-9BDF-48C0-A68E-9C7A503D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B78A-6063-4C58-843F-37DE5827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787D-E0BA-47F0-B123-13E4FC05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8AA3-3A0C-4AD6-978C-12F84312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9D9E-E218-4F5C-AAA6-2C77125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1935-F9A9-463D-B447-113F6740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6F54-C848-49D6-9974-D2129027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0E81-777D-4AA0-8E24-9386B451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7FAD-E890-4B09-A7FE-133BA106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41BA-FEE1-4DF2-AC7B-747735C6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69C3-97F4-460D-B4A9-F5BCC0D4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921-76E0-4FEA-87BF-AC914CA0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2B9A-4F70-46A2-8395-8787B19B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BA63-6241-4F2A-8834-30590A7F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63F7-8DB4-4BDE-A20E-E9B11A7B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FB80-75CC-4771-8A00-FE0364C8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984F-B47F-4C62-B75E-BE4AB3A9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DD24-F758-4093-9048-6514C3DF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FE9E-4C8C-4A92-A394-606B58AB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5D6B-30BD-441E-85B6-F449B624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CFEF-9332-4A37-A98E-DB58DD3E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A0CB-46E5-44D5-9DA6-46EC4605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92E-7F68-4FC2-8C42-BD4BD4A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4A25-FA77-4341-A68C-2DE994CF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ECA5-1C45-46C5-8727-08CF288A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BD33-5DFB-450E-BA95-109E0A3C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C98DB-296C-4BEF-8649-AE59929F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FB52-244F-4D32-9C32-E956BE92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C847-0F5B-43F7-957C-9970F2A7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0AC3C-6EB9-4C2D-BFC6-0E57966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51DBD-A3F6-4A47-AA9F-08E55A9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03D7-4F96-4EC5-A7ED-74287F8F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DDDC-7E8F-410B-9D0B-ECA5C390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A00-5D56-4C27-986D-07F98CEF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BBF33-BFFF-40BF-85F3-2A54037A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CEB3B-6275-4242-874E-4F0EB8A3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8D1E8-C35E-4687-A2DF-F2A1B64F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6B667-5002-42DA-8AFB-36E3EA64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BE82A-E9FC-44C0-88D5-0277A5AF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C3E6E-6AE8-43BA-B0FE-B28C42C1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FAF7F-0602-4C0D-93DB-9FDEE366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85F2-F566-4306-8EAA-54DCB6F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EBB1-C438-4A1E-B5AC-65A095C8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19580-B5F8-4F32-A8F7-92493D06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C1C-1FD0-4634-A009-8968F631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3117E-EB7E-4016-9F78-27447F88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6179-52D6-402A-AE6E-378AD61C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6BDD8-B777-47D6-99C2-ECD2603F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345F-66F1-4246-836F-BAD6F164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DEF3-2A89-4B50-BB93-4A447C98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2B71C-6776-4A74-9CF5-3FEA7EA7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51FA5-EDD6-4E12-A955-3061FD63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9F3C-28D8-4A7E-A4E2-76056AA6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5F3AE-D750-485B-8138-0B9EF021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3CC6A-D543-46BF-8BCF-E8F75353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E80-4169-4790-B142-8A487539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F4019-1BA9-4F4E-BAA5-52A28A0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3C259-9507-437C-9641-6A16EB5D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8BF7E-A920-4702-9CFF-72D31D10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D4DC8-5BFE-4B5E-89EB-EF3278DC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63435-5329-4A94-A499-F6EC82FE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7A7C6-B857-40C2-B955-16E6B7FA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C5141-DFDA-462C-8771-8C7A7600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D35FC-9B68-4BA8-8C1C-352ED020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DC712-C69C-4F3E-A9DB-AA5A9CB9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AE1B3-20D8-41CE-873C-7E9C0FC9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DE2-0093-4714-8F7F-A4EF5C42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BC8EF-C454-40CC-BA94-6E35A7BB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E0199-4506-447A-A6BF-4E3291A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59DE1-48DD-4226-85CB-A344763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8B121-5B41-4125-9EE6-82C22A7F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3BECF-D22C-43BF-B2DC-553B282D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B0907-4E95-43BB-9DB8-44DDCD9D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990C0-A2E8-4FB3-9B0B-AA2E7343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58629-2114-476A-B8CD-E7AA5349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6097C-4344-4D7E-94B0-85109A4F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AE13C-ED5E-4E2E-92A4-93BBC0A8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E8B1-33C7-48DD-8FA0-3C03A5458E97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DC26-5122-4D76-8E40-6C51013EDA71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6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381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9AFE-1FF8-4127-BA64-C946DDD5BF92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C878-FEE6-4719-92E5-0A3B0F61B8FA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24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B80F-E986-47F1-AC11-688CC8C9B65F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7C41-982C-4D8D-A464-6E3BE81E9BC5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7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4EC6-A1BB-4AAD-9C83-962E4E43C597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24D1-80D5-49AA-A904-73DDFBF90514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510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E172-E843-4A83-B2B5-A63B4FE32FF9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AB92-E9E2-43CB-A593-6237DD12FFAE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553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3DF0-707C-4777-ACA8-6A4F833772BA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0E73-835A-440A-ABF2-239136A23C2D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596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9104-3503-4576-9175-B2AD631F4E86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216A-BE60-40FF-9CE4-38973B80F400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675240"/>
          </a:xfrm>
          <a:prstGeom prst="rect">
            <a:avLst/>
          </a:prstGeom>
          <a:ln w="0">
            <a:noFill/>
          </a:ln>
        </p:spPr>
      </p:pic>
      <p:pic>
        <p:nvPicPr>
          <p:cNvPr id="639" name="Imagen 6" descr=""/>
          <p:cNvPicPr/>
          <p:nvPr/>
        </p:nvPicPr>
        <p:blipFill>
          <a:blip r:embed="rId3"/>
          <a:stretch/>
        </p:blipFill>
        <p:spPr>
          <a:xfrm>
            <a:off x="252360" y="333360"/>
            <a:ext cx="7056360" cy="3052800"/>
          </a:xfrm>
          <a:prstGeom prst="rect">
            <a:avLst/>
          </a:prstGeom>
          <a:ln w="0">
            <a:noFill/>
          </a:ln>
        </p:spPr>
      </p:pic>
      <p:sp>
        <p:nvSpPr>
          <p:cNvPr id="640" name="Rectángulo 1"/>
          <p:cNvSpPr/>
          <p:nvPr/>
        </p:nvSpPr>
        <p:spPr>
          <a:xfrm>
            <a:off x="3708360" y="260280"/>
            <a:ext cx="5111640" cy="2892600"/>
          </a:xfrm>
          <a:prstGeom prst="rect">
            <a:avLst/>
          </a:prstGeom>
          <a:solidFill>
            <a:srgbClr val="174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ángulo 6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e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ángulo 2"/>
          <p:cNvSpPr/>
          <p:nvPr/>
        </p:nvSpPr>
        <p:spPr>
          <a:xfrm>
            <a:off x="4572000" y="981000"/>
            <a:ext cx="4572000" cy="30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Imagen 1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3979800" cy="2581560"/>
          </a:xfrm>
          <a:prstGeom prst="rect">
            <a:avLst/>
          </a:prstGeom>
          <a:ln w="0">
            <a:noFill/>
          </a:ln>
        </p:spPr>
      </p:pic>
      <p:sp>
        <p:nvSpPr>
          <p:cNvPr id="644" name="Rectángulo 3"/>
          <p:cNvSpPr/>
          <p:nvPr/>
        </p:nvSpPr>
        <p:spPr>
          <a:xfrm>
            <a:off x="0" y="3675240"/>
            <a:ext cx="9144000" cy="3182760"/>
          </a:xfrm>
          <a:prstGeom prst="rect">
            <a:avLst/>
          </a:prstGeom>
          <a:solidFill>
            <a:srgbClr val="fff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á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Imagen 6" descr=""/>
          <p:cNvPicPr/>
          <p:nvPr/>
        </p:nvPicPr>
        <p:blipFill>
          <a:blip r:embed="rId2"/>
          <a:stretch/>
        </p:blipFill>
        <p:spPr>
          <a:xfrm>
            <a:off x="5675400" y="5965920"/>
            <a:ext cx="2958840" cy="803160"/>
          </a:xfrm>
          <a:prstGeom prst="rect">
            <a:avLst/>
          </a:prstGeom>
          <a:ln w="0">
            <a:noFill/>
          </a:ln>
        </p:spPr>
      </p:pic>
      <p:pic>
        <p:nvPicPr>
          <p:cNvPr id="683" name="Imagen 12" descr=""/>
          <p:cNvPicPr/>
          <p:nvPr/>
        </p:nvPicPr>
        <p:blipFill>
          <a:blip r:embed="rId3"/>
          <a:stretch/>
        </p:blipFill>
        <p:spPr>
          <a:xfrm>
            <a:off x="611280" y="5918040"/>
            <a:ext cx="2743200" cy="939960"/>
          </a:xfrm>
          <a:prstGeom prst="rect">
            <a:avLst/>
          </a:prstGeom>
          <a:ln w="0">
            <a:noFill/>
          </a:ln>
        </p:spPr>
      </p:pic>
      <p:sp>
        <p:nvSpPr>
          <p:cNvPr id="684" name="Rectángulo 11"/>
          <p:cNvSpPr/>
          <p:nvPr/>
        </p:nvSpPr>
        <p:spPr>
          <a:xfrm>
            <a:off x="0" y="5805360"/>
            <a:ext cx="9144000" cy="71640"/>
          </a:xfrm>
          <a:prstGeom prst="rect">
            <a:avLst/>
          </a:prstGeom>
          <a:solidFill>
            <a:srgbClr val="174295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á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Imagen 6" descr=""/>
          <p:cNvPicPr/>
          <p:nvPr/>
        </p:nvPicPr>
        <p:blipFill>
          <a:blip r:embed="rId2"/>
          <a:stretch/>
        </p:blipFill>
        <p:spPr>
          <a:xfrm>
            <a:off x="5675400" y="5965920"/>
            <a:ext cx="2958840" cy="803160"/>
          </a:xfrm>
          <a:prstGeom prst="rect">
            <a:avLst/>
          </a:prstGeom>
          <a:ln w="0">
            <a:noFill/>
          </a:ln>
        </p:spPr>
      </p:pic>
      <p:pic>
        <p:nvPicPr>
          <p:cNvPr id="723" name="Imagen 12" descr=""/>
          <p:cNvPicPr/>
          <p:nvPr/>
        </p:nvPicPr>
        <p:blipFill>
          <a:blip r:embed="rId3"/>
          <a:stretch/>
        </p:blipFill>
        <p:spPr>
          <a:xfrm>
            <a:off x="611280" y="5918040"/>
            <a:ext cx="2743200" cy="939960"/>
          </a:xfrm>
          <a:prstGeom prst="rect">
            <a:avLst/>
          </a:prstGeom>
          <a:ln w="0">
            <a:noFill/>
          </a:ln>
        </p:spPr>
      </p:pic>
      <p:sp>
        <p:nvSpPr>
          <p:cNvPr id="724" name="Rectángulo 10"/>
          <p:cNvSpPr/>
          <p:nvPr/>
        </p:nvSpPr>
        <p:spPr>
          <a:xfrm>
            <a:off x="0" y="5805360"/>
            <a:ext cx="9144000" cy="71640"/>
          </a:xfrm>
          <a:prstGeom prst="rect">
            <a:avLst/>
          </a:prstGeom>
          <a:solidFill>
            <a:srgbClr val="174295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ángulo 1"/>
          <p:cNvSpPr/>
          <p:nvPr/>
        </p:nvSpPr>
        <p:spPr>
          <a:xfrm>
            <a:off x="0" y="0"/>
            <a:ext cx="87375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á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Imagen 6" descr=""/>
          <p:cNvPicPr/>
          <p:nvPr/>
        </p:nvPicPr>
        <p:blipFill>
          <a:blip r:embed="rId2"/>
          <a:stretch/>
        </p:blipFill>
        <p:spPr>
          <a:xfrm>
            <a:off x="5675400" y="5965920"/>
            <a:ext cx="2958840" cy="803160"/>
          </a:xfrm>
          <a:prstGeom prst="rect">
            <a:avLst/>
          </a:prstGeom>
          <a:ln w="0">
            <a:noFill/>
          </a:ln>
        </p:spPr>
      </p:pic>
      <p:pic>
        <p:nvPicPr>
          <p:cNvPr id="764" name="Imagen 12" descr=""/>
          <p:cNvPicPr/>
          <p:nvPr/>
        </p:nvPicPr>
        <p:blipFill>
          <a:blip r:embed="rId3"/>
          <a:stretch/>
        </p:blipFill>
        <p:spPr>
          <a:xfrm>
            <a:off x="611280" y="5918040"/>
            <a:ext cx="2743200" cy="939960"/>
          </a:xfrm>
          <a:prstGeom prst="rect">
            <a:avLst/>
          </a:prstGeom>
          <a:ln w="0">
            <a:noFill/>
          </a:ln>
        </p:spPr>
      </p:pic>
      <p:sp>
        <p:nvSpPr>
          <p:cNvPr id="765" name="Rectángulo 6"/>
          <p:cNvSpPr/>
          <p:nvPr/>
        </p:nvSpPr>
        <p:spPr>
          <a:xfrm>
            <a:off x="0" y="5805360"/>
            <a:ext cx="9144000" cy="71640"/>
          </a:xfrm>
          <a:prstGeom prst="rect">
            <a:avLst/>
          </a:prstGeom>
          <a:solidFill>
            <a:srgbClr val="174295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80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B8F5-BD2D-4FB3-B138-C208A077B7C9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CBC8-1B2F-4274-8DED-83FA8027D8CF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123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EAF7-A176-4204-9DEA-37C25D9DBA3A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AC7-A870-49E9-83AE-D0100BC2F5F1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166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C025-E552-457F-BE2C-6D650558EF9D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60D2-BDFD-408F-A8AE-DCD9F51BB053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0134-8459-4C73-8EC8-79FFD620C451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0EED-93C5-4CAF-871F-9E0C19684953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252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28BA-0E7D-4DF4-A765-545CA244342D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77D7-0879-44B6-9DB5-6B8F2688C6F0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295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6883-42D0-454E-9B14-7E8A1DA3AE3D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ABBA-DC4D-456F-BF54-E990B2F04A3D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Imagen 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338" name="Imagen 9" descr=""/>
          <p:cNvPicPr/>
          <p:nvPr/>
        </p:nvPicPr>
        <p:blipFill>
          <a:blip r:embed="rId3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da4"/>
                </a:solidFill>
                <a:latin typeface="Academy Engraved LET"/>
              </a:rPr>
              <a:t>Click to edit the title text format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078B-4AC0-4ECD-81DA-1675FBA3AA8C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CF0-1D3D-47E7-BCF7-AC227526DE65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324000" y="1268280"/>
            <a:ext cx="8569080" cy="1800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8160" indent="-38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2060"/>
                </a:solidFill>
                <a:latin typeface="Book Antiqua"/>
                <a:ea typeface="ヒラギノ明朝 ProN W3"/>
              </a:rPr>
              <a:t>LA ACREDITACIÓN DE ALTA CALIDAD EN LA EDUCACIÓN SUPERIOR COLOMB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0" y="4641840"/>
            <a:ext cx="9144000" cy="1896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0066"/>
                </a:solidFill>
                <a:latin typeface="Book Antiqua"/>
                <a:ea typeface="ヒラギノ角ゴ ProN W3"/>
              </a:rPr>
              <a:t>Prospectivas de la Educación Sup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0066"/>
                </a:solidFill>
                <a:latin typeface="Book Antiqua"/>
                <a:ea typeface="ヒラギノ角ゴ ProN W3"/>
              </a:rPr>
              <a:t>Hacia una Colombia Educada con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Book Antiqua"/>
                <a:ea typeface="ヒラギノ角ゴ ProN W3"/>
              </a:rPr>
              <a:t>MINISTERIO DE EDUCACIÓN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Book Antiqua"/>
                <a:ea typeface="ヒラギノ角ゴ ProN W3"/>
              </a:rPr>
              <a:t>Pereira, Abril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CuadroTexto 1"/>
          <p:cNvSpPr/>
          <p:nvPr/>
        </p:nvSpPr>
        <p:spPr>
          <a:xfrm>
            <a:off x="684360" y="476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IODOS DE ACREDITACION DE LOS PROGRAMAS DE LA U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2627280" y="1773360"/>
          <a:ext cx="4176720" cy="2227320"/>
        </p:xfrm>
        <a:graphic>
          <a:graphicData uri="http://schemas.openxmlformats.org/drawingml/2006/table">
            <a:tbl>
              <a:tblPr/>
              <a:tblGrid>
                <a:gridCol w="1849320"/>
                <a:gridCol w="1590840"/>
                <a:gridCol w="736560"/>
              </a:tblGrid>
              <a:tr h="699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O  DE ACRED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06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06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5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57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b4da4"/>
                </a:solidFill>
                <a:latin typeface="Academy Engraved LET"/>
              </a:rPr>
              <a:t>Proyectos piloto de acreditación en Colombia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931" name="4 Marcador de contenido" descr=""/>
          <p:cNvPicPr/>
          <p:nvPr/>
        </p:nvPicPr>
        <p:blipFill>
          <a:blip r:embed="rId1"/>
          <a:stretch/>
        </p:blipFill>
        <p:spPr>
          <a:xfrm>
            <a:off x="457200" y="2266920"/>
            <a:ext cx="8253360" cy="4194360"/>
          </a:xfrm>
          <a:prstGeom prst="rect">
            <a:avLst/>
          </a:prstGeom>
          <a:ln w="0">
            <a:noFill/>
          </a:ln>
        </p:spPr>
      </p:pic>
      <p:sp>
        <p:nvSpPr>
          <p:cNvPr id="9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0FC9-FD2E-4A91-AE9E-D576E04790B4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II.  Sistema  Nacional  de  Acred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98200" y="1557360"/>
            <a:ext cx="74898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4da4"/>
                </a:solidFill>
                <a:latin typeface="Arial"/>
              </a:rPr>
              <a:t>SISTEMA NACIONAL DE ACREDITACION</a:t>
            </a:r>
            <a:br>
              <a:rPr sz="2800"/>
            </a:br>
            <a:r>
              <a:rPr b="1" i="1" lang="en-US" sz="2400" spc="-1" strike="noStrike">
                <a:solidFill>
                  <a:srgbClr val="1b4da4"/>
                </a:solidFill>
                <a:latin typeface="Arial"/>
              </a:rPr>
              <a:t>(Ley 30 de 1992. </a:t>
            </a:r>
            <a:r>
              <a:rPr b="1" i="1" lang="es-CO" sz="2400" spc="-1" strike="noStrike">
                <a:solidFill>
                  <a:srgbClr val="1b4da4"/>
                </a:solidFill>
                <a:latin typeface="Arial"/>
              </a:rPr>
              <a:t>Artículo</a:t>
            </a:r>
            <a:r>
              <a:rPr b="1" i="1" lang="en-US" sz="2400" spc="-1" strike="noStrike">
                <a:solidFill>
                  <a:srgbClr val="1b4da4"/>
                </a:solidFill>
                <a:latin typeface="Arial"/>
              </a:rPr>
              <a:t> 53)</a:t>
            </a:r>
            <a:endParaRPr b="1" lang="en-US" sz="24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11280" y="2779560"/>
            <a:ext cx="79898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CO" sz="2800" spc="-1" strike="noStrike">
                <a:solidFill>
                  <a:srgbClr val="000000"/>
                </a:solidFill>
                <a:latin typeface="Arial"/>
              </a:rPr>
              <a:t>Garantizar a la sociedad q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800" spc="-1" strike="noStrike">
                <a:solidFill>
                  <a:srgbClr val="000000"/>
                </a:solidFill>
                <a:latin typeface="Arial"/>
              </a:rPr>
              <a:t>las Instituciones de Educación Superio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800" spc="-1" strike="noStrike">
                <a:solidFill>
                  <a:srgbClr val="000000"/>
                </a:solidFill>
                <a:latin typeface="Arial"/>
              </a:rPr>
              <a:t>que hacen parte del Sistem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800" spc="-1" strike="noStrike">
                <a:solidFill>
                  <a:srgbClr val="000000"/>
                </a:solidFill>
                <a:latin typeface="Arial"/>
              </a:rPr>
              <a:t>cumplen c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800" spc="-1" strike="noStrike" u="sng">
                <a:solidFill>
                  <a:srgbClr val="1f497d"/>
                </a:solidFill>
                <a:uFillTx/>
                <a:latin typeface="Arial"/>
              </a:rPr>
              <a:t>los más altos requisitos de calidad</a:t>
            </a:r>
            <a:r>
              <a:rPr b="1" i="1" lang="es-CO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800" spc="-1" strike="noStrike">
                <a:solidFill>
                  <a:srgbClr val="000000"/>
                </a:solidFill>
                <a:latin typeface="Arial"/>
              </a:rPr>
              <a:t>y  realizan sus propósitos y objetivo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595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b4da4"/>
                </a:solidFill>
                <a:latin typeface="Arial"/>
              </a:rPr>
              <a:t>Tipos  de  Evaluación</a:t>
            </a:r>
            <a:endParaRPr b="1" lang="en-US" sz="36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480" y="3666600"/>
            <a:ext cx="792504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ertificación de Estándares Básicos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que lleva al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Registro Calificad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(obligatorio):  CONA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reditación de Alta Calidad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(voluntario):  CNA.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sto se realiza a dos nive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41280" indent="-4730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reditación de Progra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41280" indent="-4730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reditación I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 Box 5"/>
          <p:cNvSpPr/>
          <p:nvPr/>
        </p:nvSpPr>
        <p:spPr>
          <a:xfrm>
            <a:off x="609480" y="255420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os procesos de evaluación relacionados con el Aseguramiento de la Cal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8703-D2B4-4BEC-A2B1-9C3332CBCCCA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"/>
          <p:cNvSpPr/>
          <p:nvPr/>
        </p:nvSpPr>
        <p:spPr>
          <a:xfrm>
            <a:off x="649440" y="2013120"/>
            <a:ext cx="79549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El concepto d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CALIDAD en la educación superior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hace referencia a la síntesis de características que permiten reconocer un programa académico o una institución,  y hacer un juicio sobre la distancia relativa entre el modo como en esa institución o programa académico se presta dicho servicio,  y el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ÓPTIM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que corresponde a su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Line 3"/>
          <p:cNvSpPr/>
          <p:nvPr/>
        </p:nvSpPr>
        <p:spPr>
          <a:xfrm>
            <a:off x="4427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4"/>
          <p:cNvSpPr/>
          <p:nvPr/>
        </p:nvSpPr>
        <p:spPr>
          <a:xfrm>
            <a:off x="1979640" y="5445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435600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6"/>
          <p:cNvSpPr/>
          <p:nvPr/>
        </p:nvSpPr>
        <p:spPr>
          <a:xfrm>
            <a:off x="7287480" y="52084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7"/>
          <p:cNvSpPr/>
          <p:nvPr/>
        </p:nvSpPr>
        <p:spPr>
          <a:xfrm>
            <a:off x="4001400" y="16635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Ópt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8"/>
          <p:cNvSpPr/>
          <p:nvPr/>
        </p:nvSpPr>
        <p:spPr>
          <a:xfrm>
            <a:off x="4317840" y="2278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9"/>
          <p:cNvSpPr/>
          <p:nvPr/>
        </p:nvSpPr>
        <p:spPr>
          <a:xfrm>
            <a:off x="4324320" y="31035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0"/>
          <p:cNvSpPr/>
          <p:nvPr/>
        </p:nvSpPr>
        <p:spPr>
          <a:xfrm>
            <a:off x="4356000" y="4865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4572000" y="21258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 cumple plen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4643280" y="29462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 cumple en alto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4695840" y="4675320"/>
            <a:ext cx="30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 cumple aceptable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4"/>
          <p:cNvSpPr/>
          <p:nvPr/>
        </p:nvSpPr>
        <p:spPr>
          <a:xfrm>
            <a:off x="4305240" y="605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4681440" y="590220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o se cu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4716360" y="54687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 cumple insatisfacto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7"/>
          <p:cNvSpPr/>
          <p:nvPr/>
        </p:nvSpPr>
        <p:spPr>
          <a:xfrm flipV="1">
            <a:off x="4427640" y="3141720"/>
            <a:ext cx="3168720" cy="23032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4427640" y="1917720"/>
            <a:ext cx="2449440" cy="3527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rc 19"/>
          <p:cNvSpPr/>
          <p:nvPr/>
        </p:nvSpPr>
        <p:spPr>
          <a:xfrm>
            <a:off x="6516720" y="2565360"/>
            <a:ext cx="719280" cy="72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7216920" y="2443320"/>
            <a:ext cx="17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1f497d"/>
                </a:solidFill>
                <a:uFillTx/>
                <a:latin typeface="Times New Roman"/>
                <a:ea typeface="Arial"/>
              </a:rPr>
              <a:t>Mejor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O" sz="2800" spc="-1" strike="noStrike">
              <a:solidFill>
                <a:srgbClr val="1b4da4"/>
              </a:solidFill>
              <a:latin typeface="Academy Engraved LET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Marcador de número de diapositiv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F46E-6AD8-4FA1-BAEC-75AADF4702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1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1323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"/>
          <p:cNvPicPr/>
          <p:nvPr/>
        </p:nvPicPr>
        <p:blipFill>
          <a:blip r:embed="rId2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b4da4"/>
                </a:solidFill>
                <a:latin typeface="Academy Engraved LET"/>
              </a:rPr>
              <a:t>Dinámica del análisis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32640" cy="4897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 Bold"/>
              </a:rPr>
              <a:t>Diga lo que hace (autonomía, soberanía)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una institución de alta calidad debe tener una clara fundamentación, coherente con la mission, visión y PEI. Estos elementos deben ser claramente conocidos y apropiados por la comunidad académica. Igualmente, debe proveer información veraz, ética y comprobable a la comunidad y demostrar que así lo hace. “La Acreditación una Expresión de Autonomía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 Bold"/>
              </a:rPr>
              <a:t>Haga lo que dice (coherencia)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una institución de alta calidad debe mostrar  coherencia entre lo que dice que hace y lo que hace para lograrlo, lo cual se refleja en su cuerpo docente altamente calificado, calidad de la enseñanza, investigación,  creación artística reconocida, estudiantes sobresalientes, fuentes adecuadas de financiación, libertad académ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 Bold"/>
              </a:rPr>
              <a:t>Pruébelo (evidencia)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una institución de alta calidad debe demostrar que lo que dice y hace está apoyado en proyectos realizados y en sistemas de información confiables e integr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 Bold"/>
              </a:rPr>
              <a:t>Mejórelo (homeóstasis):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una institución de alta calidad debe demostrar que tiene un plan de mejoramiento continuo que responde a las necesidades y que se propone con una base presupuestal, re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Marcador de número de diapositiv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321-5D6A-470A-88A8-99C3F4456D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ok Antiqua"/>
                <a:ea typeface="Academy Engraved LET"/>
              </a:rPr>
              <a:t>ELEMENTOS DE LA EVALUACIÓN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67" name="Text Box 5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9600-B83C-43D4-A472-C87AC1C874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Diagrama 2" descr=""/>
          <p:cNvPicPr/>
          <p:nvPr/>
        </p:nvPicPr>
        <p:blipFill>
          <a:blip r:embed="rId1"/>
          <a:stretch/>
        </p:blipFill>
        <p:spPr>
          <a:xfrm>
            <a:off x="426960" y="1755720"/>
            <a:ext cx="8545680" cy="47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b4da4"/>
                </a:solidFill>
                <a:latin typeface="Academy Engraved LET"/>
              </a:rPr>
              <a:t>MODELO DE ACREDITACIÓN DEL CNA </a:t>
            </a:r>
            <a:r>
              <a:rPr b="1" lang="es-CO" sz="2400" spc="-1" strike="noStrike">
                <a:solidFill>
                  <a:srgbClr val="000000"/>
                </a:solidFill>
                <a:latin typeface="Academy Engraved LET"/>
              </a:rPr>
              <a:t>CARÁCTER TEMPORAL DE LA ACREDITACIÓN</a:t>
            </a:r>
            <a:endParaRPr b="1" lang="en-US" sz="24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457200" y="274752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VI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urante el tiempo que dure la acreditación, la institución debe realizar mejoramiento continuo de las debilidades detectadas, mantener o superar las fortalezas y presentarse para la renovació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s vigencias establecidas son de 4, 6, 8 o 10 añ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0182-C3EC-4908-AF67-E51DC17DED14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I.  La Educación Superior en Colo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Marcador de número de diapositiv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7398-E1BF-4FF8-BA27-C0803770B3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13237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2" descr=""/>
          <p:cNvPicPr/>
          <p:nvPr/>
        </p:nvPicPr>
        <p:blipFill>
          <a:blip r:embed="rId2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5" name=""/>
          <p:cNvGraphicFramePr/>
          <p:nvPr/>
        </p:nvGraphicFramePr>
        <p:xfrm>
          <a:off x="179280" y="2408400"/>
          <a:ext cx="8864640" cy="4260600"/>
        </p:xfrm>
        <a:graphic>
          <a:graphicData uri="http://schemas.openxmlformats.org/drawingml/2006/table">
            <a:tbl>
              <a:tblPr/>
              <a:tblGrid>
                <a:gridCol w="4434120"/>
                <a:gridCol w="4430520"/>
              </a:tblGrid>
              <a:tr h="3610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Calibri Bold"/>
                          <a:ea typeface="ヒラギノ角ゴ ProN W3"/>
                        </a:rPr>
                        <a:t>FACTORES LINEAMIENTOS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1d4fa5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Calibri Bold"/>
                          <a:ea typeface="ヒラギノ角ゴ ProN W3"/>
                        </a:rPr>
                        <a:t>FACTORES LINEAMIENTOS 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1d4fa5"/>
                    </a:solidFill>
                  </a:tcPr>
                </a:tc>
              </a:tr>
              <a:tr h="48204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MISIÓN, PROYECTO INSTITUCIONAL Y DE PROGR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MISIÓN, PROYECTO INSTITUCIONAL Y DE PROGR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ESTUDIAN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ESTUDIAN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PROFES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PROFES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PROCESOS ACADÉM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PROCESOS ACADÉM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0000"/>
                          </a:solidFill>
                          <a:latin typeface="Calibri Bold"/>
                          <a:ea typeface="ヒラギノ角ゴ ProN W3"/>
                        </a:rPr>
                        <a:t>VISIBILIDAD NACIONAL E INTERNA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0000"/>
                          </a:solidFill>
                          <a:latin typeface="Calibri Bold"/>
                          <a:ea typeface="ヒラギノ角ゴ ProN W3"/>
                        </a:rPr>
                        <a:t>INVESTIGACIÓN Y CREACIÓN ARTÍSTICA Y CULTU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BIENESTAR INSTITU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BIENESTAR INSTITU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ORGANIZACIÓN, ADMINISTRACIÓN Y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ORGANIZACIÓN, ADMINISTRACIÓN Y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EGRESADOS Y ARTICULACIÓN EN EL MED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IMPACTO DE LOS EGRESADOS E EL MED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RECURSOS FÍSICOS Y FINANCIER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 Bold"/>
                          <a:ea typeface="ヒラギノ角ゴ ProN W3"/>
                        </a:rPr>
                        <a:t>RECURSOS FÍSICOS Y FINANCIER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252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ヒラギノ角ゴ ProN W3"/>
                        </a:rPr>
                        <a:t>8 FA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ヒラギノ角ゴ ProN W3"/>
                        </a:rPr>
                        <a:t>42 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ヒラギノ角ゴ ProN W3"/>
                        </a:rPr>
                        <a:t>196 ASPECTOS A EVAL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ヒラギノ角ゴ ProN W3"/>
                        </a:rPr>
                        <a:t>181 INDIC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9a9a9a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ヒラギノ角ゴ ProN W3"/>
                        </a:rPr>
                        <a:t>10 FA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ヒラギノ角ゴ ProN W3"/>
                        </a:rPr>
                        <a:t>40 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ヒラギノ角ゴ ProN W3"/>
                        </a:rPr>
                        <a:t>243 ASPECTOS A EVAL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440">
                      <a:solidFill>
                        <a:srgbClr val="1d4fa5"/>
                      </a:solidFill>
                    </a:lnL>
                    <a:lnR w="1440">
                      <a:solidFill>
                        <a:srgbClr val="1d4fa5"/>
                      </a:solidFill>
                    </a:lnR>
                    <a:lnT w="1440">
                      <a:solidFill>
                        <a:srgbClr val="1d4fa5"/>
                      </a:solidFill>
                    </a:lnT>
                    <a:lnB w="1440">
                      <a:solidFill>
                        <a:srgbClr val="1d4fa5"/>
                      </a:solidFill>
                    </a:lnB>
                    <a:solidFill>
                      <a:srgbClr val="9a9a9a"/>
                    </a:solidFill>
                  </a:tcPr>
                </a:tc>
              </a:tr>
            </a:tbl>
          </a:graphicData>
        </a:graphic>
      </p:graphicFrame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137448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b4da4"/>
                </a:solidFill>
                <a:latin typeface="Academy Engraved LET"/>
              </a:rPr>
              <a:t>ACREDITACIÓN DE PROGRAMAS DE PREGRADO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2" descr=""/>
          <p:cNvPicPr/>
          <p:nvPr/>
        </p:nvPicPr>
        <p:blipFill>
          <a:blip r:embed="rId2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12697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4da4"/>
                </a:solidFill>
                <a:latin typeface="Academy Engraved LET"/>
              </a:rPr>
              <a:t>IMPACTOS DE LA ACREDITACIÓN EN LA EDUCACIÓN SUPERIOR COLOMBIANA(1)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08000" y="2204640"/>
            <a:ext cx="8578800" cy="46530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talecimiento de la cultura de Autoevaluación, orientada hacia el aseguramiento de la calidad y su mejoramiento continu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ción de planes estratégicos en respuesta  a problemas significativos, integrados con intereses de los actores relacionados (estudiantes, docentes, egresados y administrativo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mento del compromiso y de la responsabilidad de la comunidad  universitaria con la mejora de la c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mento de la internacionalización, con una clara relación entre los procesos de acreditación y el desarrollo de estrategias de cooperación académic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2" descr=""/>
          <p:cNvPicPr/>
          <p:nvPr/>
        </p:nvPicPr>
        <p:blipFill>
          <a:blip r:embed="rId2"/>
          <a:stretch/>
        </p:blipFill>
        <p:spPr>
          <a:xfrm>
            <a:off x="68400" y="993600"/>
            <a:ext cx="4863960" cy="28764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108000" y="2204640"/>
            <a:ext cx="8578800" cy="46530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de la cooperación académica entre instituciones con programas acredi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Desarrollo de sistemas de información académica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Producción académica acerca de la calidad de la educación superior y de la gestión de las institu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urrículos más pertinentes, interdisciplinarios y flex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Mejor infraestructura de apoyo a las labores docentes e investig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Incremento en el número de grupos escalafonados por Colciencias en las diferentes categorí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en el número de publicaciones docent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Esfuerzos institucionales por dotar a sus programas, de plantas docentes suficientes y con niveles de formación de maestría y de doctora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title"/>
          </p:nvPr>
        </p:nvSpPr>
        <p:spPr>
          <a:xfrm>
            <a:off x="457200" y="12697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4da4"/>
                </a:solidFill>
                <a:latin typeface="Academy Engraved LET"/>
              </a:rPr>
              <a:t>IMPACTOS DE LA ACREDITACIÓN EN LA EDUCACIÓN SUPERIOR COLOMBIANA (2)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Academy Engraved LET"/>
              </a:rPr>
              <a:t>NUEVOS LINEAMIENTOS PARA EVALUACIÓN INSTITUCIONAL CON MIRAS A LA ACREDITACIÓN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722160" y="2757240"/>
            <a:ext cx="7772400" cy="2352600"/>
          </a:xfrm>
          <a:prstGeom prst="rect">
            <a:avLst/>
          </a:prstGeom>
          <a:solidFill>
            <a:srgbClr val="c6d9f1"/>
          </a:solidFill>
          <a:ln w="38160">
            <a:solidFill>
              <a:srgbClr val="6784c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54061"/>
                </a:solidFill>
                <a:latin typeface="Calibri"/>
              </a:rPr>
              <a:t>LINEAMIENTOS QUE ORIENTAN LA EVALUACIÓN DE LAS IES CUALQUIERA QUE SEA SU CARÁCTER ACADÉMICO Y LA MODALIDAD BAJO LA CUAL OFREZCA SUS PROGRA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146376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6092"/>
                </a:solidFill>
                <a:latin typeface="Academy Engraved LET"/>
              </a:rPr>
              <a:t>EL CNA  REITERA LA NECESIDAD DE: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988" name="Marcador de contenido 3" descr=""/>
          <p:cNvPicPr/>
          <p:nvPr/>
        </p:nvPicPr>
        <p:blipFill>
          <a:blip r:embed="rId1"/>
          <a:stretch/>
        </p:blipFill>
        <p:spPr>
          <a:xfrm>
            <a:off x="444600" y="2567160"/>
            <a:ext cx="8370720" cy="38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Arial"/>
                <a:ea typeface="ヒラギノ明朝 ProN W3"/>
              </a:rPr>
              <a:t>CONSIDERACIONES GENERALES</a:t>
            </a:r>
            <a:endParaRPr b="1" lang="en-US" sz="2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68360" y="1852200"/>
            <a:ext cx="8254800" cy="48690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Concordancia con los lineamientos para la evaluación de program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Flexibilidad para su aplicación en IES de carácter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écnico, tecnológico, institución universitaria o univers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Reconocimiento a la heterogeneidad institucion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inergia con todos los componentes del sistema de aseguramiento de la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285840" algn="just">
              <a:spcBef>
                <a:spcPts val="451"/>
              </a:spcBef>
              <a:buClr>
                <a:srgbClr val="376092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istemas de Información (SPADIES, SNIE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285840" algn="just">
              <a:spcBef>
                <a:spcPts val="451"/>
              </a:spcBef>
              <a:buClr>
                <a:srgbClr val="376092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Normatividad sobre registro calificado (Decreto 129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285840" algn="just">
              <a:spcBef>
                <a:spcPts val="451"/>
              </a:spcBef>
              <a:buClr>
                <a:srgbClr val="376092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Pruebas de Estado para la Educación Superior (SABER-PR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Marcador de número de diapositiv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53C-38E4-475A-9981-703DB4E37E2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8360" y="145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Arial"/>
                <a:ea typeface="ヒラギノ明朝 ProN W3"/>
              </a:rPr>
              <a:t>CONSIDERACIONES GENERALES</a:t>
            </a:r>
            <a:endParaRPr b="1" lang="en-US" sz="2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42440" y="2307960"/>
            <a:ext cx="8255160" cy="40482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Imperativos de la sociedad global del conoc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96760" indent="-342720" algn="just">
              <a:spcBef>
                <a:spcPts val="451"/>
              </a:spcBef>
              <a:buClr>
                <a:srgbClr val="376092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96760" indent="-342720" algn="just">
              <a:spcBef>
                <a:spcPts val="451"/>
              </a:spcBef>
              <a:buClr>
                <a:srgbClr val="376092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Internacionaliz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96760" indent="-342720" algn="just">
              <a:spcBef>
                <a:spcPts val="451"/>
              </a:spcBef>
              <a:buClr>
                <a:srgbClr val="376092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87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Reconocimiento a certificaciones de calidad, sistemas de información integrados y gestión document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87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inergia con el Sistema Nacional de Ciencia, Tecnología e Innov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87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Orientación hacia la eficiencia y eficacia en la aplicación de las normas y políticas institucionales y no simplemente su exist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87"/>
              </a:spcBef>
              <a:buClr>
                <a:srgbClr val="37609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Inclusión de la creación artística y cultur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Marcador de número de diapositiv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EA7C-3C4D-440F-AB91-570877E8078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Academy Engraved LET"/>
              </a:rPr>
              <a:t>CAMBIOS METODOLÓGICOS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Arial"/>
              <a:ea typeface="ヒラギノ明朝 ProN W3"/>
            </a:endParaRPr>
          </a:p>
        </p:txBody>
      </p:sp>
      <p:sp>
        <p:nvSpPr>
          <p:cNvPr id="998" name="Marcador de número de diapositiv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7639-EBDD-4352-AFF3-DB4BD67622B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8360" y="1701720"/>
            <a:ext cx="8229600" cy="45878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8000"/>
          </a:bodyPr>
          <a:p>
            <a:pPr marL="335880" indent="-335880" algn="just">
              <a:spcBef>
                <a:spcPts val="1199"/>
              </a:spcBef>
              <a:buClr>
                <a:srgbClr val="376092"/>
              </a:buClr>
              <a:buSzPct val="9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e elimin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960" indent="-335880" algn="just">
              <a:spcBef>
                <a:spcPts val="1199"/>
              </a:spcBef>
              <a:buClr>
                <a:srgbClr val="37609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La calificación cuantit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960" indent="-335880" algn="just">
              <a:spcBef>
                <a:spcPts val="1199"/>
              </a:spcBef>
              <a:buClr>
                <a:srgbClr val="37609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La ponderación y la discusión de la ponderación en el informe de evaluación exte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960" indent="-335880" algn="just">
              <a:spcBef>
                <a:spcPts val="1199"/>
              </a:spcBef>
              <a:buClr>
                <a:srgbClr val="37609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La ponderación en la autoevaluación es opt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960" indent="-335880" algn="just">
              <a:spcBef>
                <a:spcPts val="1199"/>
              </a:spcBef>
              <a:buClr>
                <a:srgbClr val="37609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e centra en aspectos a evaluar y no en indic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1199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e conserv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960" indent="-335880" algn="just">
              <a:spcBef>
                <a:spcPts val="1199"/>
              </a:spcBef>
              <a:buClr>
                <a:srgbClr val="37609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El carácter participativo de la auto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960" indent="-335880" algn="just">
              <a:spcBef>
                <a:spcPts val="1199"/>
              </a:spcBef>
              <a:buClr>
                <a:srgbClr val="37609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El carácter interpretativo e integral de la autoevaluación y de la hetero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960" indent="-335880" algn="just">
              <a:spcBef>
                <a:spcPts val="1199"/>
              </a:spcBef>
              <a:buClr>
                <a:srgbClr val="37609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La flexibilidad en la autoevaluación con posibilidad de plantear otros aspectos a evaluar complementarios o ajustados a las particularidades institucion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960" indent="-335880" algn="just">
              <a:spcBef>
                <a:spcPts val="1199"/>
              </a:spcBef>
              <a:buClr>
                <a:srgbClr val="37609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CuadroTexto 1"/>
          <p:cNvSpPr/>
          <p:nvPr/>
        </p:nvSpPr>
        <p:spPr>
          <a:xfrm>
            <a:off x="-927000" y="4168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1 Forma libre"/>
          <p:cNvSpPr/>
          <p:nvPr/>
        </p:nvSpPr>
        <p:spPr>
          <a:xfrm>
            <a:off x="289080" y="2852640"/>
            <a:ext cx="8820000" cy="700200"/>
          </a:xfrm>
          <a:custGeom>
            <a:avLst/>
            <a:gdLst>
              <a:gd name="textAreaLeft" fmla="*/ 174960 w 8820000"/>
              <a:gd name="textAreaRight" fmla="*/ 8645040 w 8820000"/>
              <a:gd name="textAreaTop" fmla="*/ 174960 h 700200"/>
              <a:gd name="textAreaBottom" fmla="*/ 525240 h 7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7" y="0"/>
                </a:lnTo>
                <a:lnTo>
                  <a:pt x="857" y="5400"/>
                </a:lnTo>
                <a:lnTo>
                  <a:pt x="20743" y="5400"/>
                </a:lnTo>
                <a:lnTo>
                  <a:pt x="20743" y="0"/>
                </a:lnTo>
                <a:lnTo>
                  <a:pt x="21600" y="10800"/>
                </a:lnTo>
                <a:lnTo>
                  <a:pt x="20743" y="21600"/>
                </a:lnTo>
                <a:lnTo>
                  <a:pt x="20743" y="16200"/>
                </a:lnTo>
                <a:lnTo>
                  <a:pt x="857" y="16200"/>
                </a:lnTo>
                <a:lnTo>
                  <a:pt x="857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f9ce17"/>
          </a:solidFill>
          <a:ln w="25560">
            <a:solidFill>
              <a:srgbClr val="f9c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2 Forma libre"/>
          <p:cNvSpPr/>
          <p:nvPr/>
        </p:nvSpPr>
        <p:spPr>
          <a:xfrm>
            <a:off x="1584360" y="3040200"/>
            <a:ext cx="122400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MS PGothic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3 Forma libre"/>
          <p:cNvSpPr/>
          <p:nvPr/>
        </p:nvSpPr>
        <p:spPr>
          <a:xfrm>
            <a:off x="4105440" y="3040200"/>
            <a:ext cx="122364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MS PGothic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4 Forma libre"/>
          <p:cNvSpPr/>
          <p:nvPr/>
        </p:nvSpPr>
        <p:spPr>
          <a:xfrm>
            <a:off x="7345440" y="2997360"/>
            <a:ext cx="122400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MS PGothic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5 Conector recto"/>
          <p:cNvSpPr/>
          <p:nvPr/>
        </p:nvSpPr>
        <p:spPr>
          <a:xfrm>
            <a:off x="3529080" y="1268280"/>
            <a:ext cx="1440" cy="4780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6 Conector recto"/>
          <p:cNvSpPr/>
          <p:nvPr/>
        </p:nvSpPr>
        <p:spPr>
          <a:xfrm>
            <a:off x="6192720" y="1341360"/>
            <a:ext cx="1800" cy="4780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7 Forma libre"/>
          <p:cNvSpPr/>
          <p:nvPr/>
        </p:nvSpPr>
        <p:spPr>
          <a:xfrm rot="5400000">
            <a:off x="-284400" y="3029040"/>
            <a:ext cx="863640" cy="36828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H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8 Forma libre"/>
          <p:cNvSpPr/>
          <p:nvPr/>
        </p:nvSpPr>
        <p:spPr>
          <a:xfrm rot="5400000">
            <a:off x="-482760" y="4954320"/>
            <a:ext cx="1403280" cy="36828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Av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9 Forma libre"/>
          <p:cNvSpPr/>
          <p:nvPr/>
        </p:nvSpPr>
        <p:spPr>
          <a:xfrm>
            <a:off x="950760" y="1413000"/>
            <a:ext cx="2433960" cy="458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Arial Rounded MT Bold"/>
                <a:ea typeface="Arial"/>
              </a:rPr>
              <a:t>Expedición de la Ley 30 de 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10 Forma libre"/>
          <p:cNvSpPr/>
          <p:nvPr/>
        </p:nvSpPr>
        <p:spPr>
          <a:xfrm>
            <a:off x="3673440" y="1405080"/>
            <a:ext cx="2376360" cy="64116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Arial Rounded MT Bold"/>
                <a:ea typeface="Arial"/>
              </a:rPr>
              <a:t>Creación del Viceministerio de Educación Superior, Decr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Arial Rounded MT Bold"/>
                <a:ea typeface="Arial"/>
              </a:rPr>
              <a:t>2230 de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11 Forma libre"/>
          <p:cNvSpPr/>
          <p:nvPr/>
        </p:nvSpPr>
        <p:spPr>
          <a:xfrm>
            <a:off x="6337440" y="1484280"/>
            <a:ext cx="2733480" cy="4590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Arial Rounded MT Bold"/>
                <a:ea typeface="Arial"/>
              </a:rPr>
              <a:t>22 años de la  expedición de la Ley 30 de 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12 Grupo"/>
          <p:cNvGrpSpPr/>
          <p:nvPr/>
        </p:nvGrpSpPr>
        <p:grpSpPr>
          <a:xfrm>
            <a:off x="1054080" y="3846600"/>
            <a:ext cx="2211480" cy="590400"/>
            <a:chOff x="1054080" y="3846600"/>
            <a:chExt cx="2211480" cy="590400"/>
          </a:xfrm>
        </p:grpSpPr>
        <p:pic>
          <p:nvPicPr>
            <p:cNvPr id="824" name="13 Imagen" descr=""/>
            <p:cNvPicPr/>
            <p:nvPr/>
          </p:nvPicPr>
          <p:blipFill>
            <a:blip r:embed="rId1"/>
            <a:stretch/>
          </p:blipFill>
          <p:spPr>
            <a:xfrm>
              <a:off x="1054080" y="3846600"/>
              <a:ext cx="2211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14 Forma libre"/>
            <p:cNvSpPr/>
            <p:nvPr/>
          </p:nvSpPr>
          <p:spPr>
            <a:xfrm>
              <a:off x="1172880" y="3952800"/>
              <a:ext cx="1973520" cy="376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247</a:t>
              </a:r>
              <a:r>
                <a:rPr b="0" lang="es-ES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 IES principa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15 Grupo"/>
          <p:cNvGrpSpPr/>
          <p:nvPr/>
        </p:nvGrpSpPr>
        <p:grpSpPr>
          <a:xfrm>
            <a:off x="1054080" y="4432320"/>
            <a:ext cx="2211480" cy="466560"/>
            <a:chOff x="1054080" y="4432320"/>
            <a:chExt cx="2211480" cy="466560"/>
          </a:xfrm>
        </p:grpSpPr>
        <p:pic>
          <p:nvPicPr>
            <p:cNvPr id="827" name="16 Imagen" descr=""/>
            <p:cNvPicPr/>
            <p:nvPr/>
          </p:nvPicPr>
          <p:blipFill>
            <a:blip r:embed="rId2"/>
            <a:stretch/>
          </p:blipFill>
          <p:spPr>
            <a:xfrm>
              <a:off x="1054080" y="4432320"/>
              <a:ext cx="221148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17 Forma libre"/>
            <p:cNvSpPr/>
            <p:nvPr/>
          </p:nvSpPr>
          <p:spPr>
            <a:xfrm>
              <a:off x="1166760" y="4524120"/>
              <a:ext cx="1984680" cy="28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2.585</a:t>
              </a:r>
              <a:r>
                <a:rPr b="0" lang="es-CO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 program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18 Grupo"/>
          <p:cNvGrpSpPr/>
          <p:nvPr/>
        </p:nvGrpSpPr>
        <p:grpSpPr>
          <a:xfrm>
            <a:off x="936720" y="5186520"/>
            <a:ext cx="2448000" cy="1022040"/>
            <a:chOff x="936720" y="5186520"/>
            <a:chExt cx="2448000" cy="1022040"/>
          </a:xfrm>
        </p:grpSpPr>
        <p:pic>
          <p:nvPicPr>
            <p:cNvPr id="830" name="19 Imagen" descr=""/>
            <p:cNvPicPr/>
            <p:nvPr/>
          </p:nvPicPr>
          <p:blipFill>
            <a:blip r:embed="rId3"/>
            <a:stretch/>
          </p:blipFill>
          <p:spPr>
            <a:xfrm>
              <a:off x="1054080" y="5186520"/>
              <a:ext cx="22114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20 Forma libre"/>
            <p:cNvSpPr/>
            <p:nvPr/>
          </p:nvSpPr>
          <p:spPr>
            <a:xfrm>
              <a:off x="936720" y="5186520"/>
              <a:ext cx="2448000" cy="1022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La norma crea el Sistema Nacional de Información de la Educación Superior –SNIES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21 Grupo"/>
          <p:cNvGrpSpPr/>
          <p:nvPr/>
        </p:nvGrpSpPr>
        <p:grpSpPr>
          <a:xfrm>
            <a:off x="3713040" y="4017960"/>
            <a:ext cx="2436840" cy="473040"/>
            <a:chOff x="3713040" y="4017960"/>
            <a:chExt cx="2436840" cy="473040"/>
          </a:xfrm>
        </p:grpSpPr>
        <p:pic>
          <p:nvPicPr>
            <p:cNvPr id="833" name="22 Imagen" descr=""/>
            <p:cNvPicPr/>
            <p:nvPr/>
          </p:nvPicPr>
          <p:blipFill>
            <a:blip r:embed="rId4"/>
            <a:stretch/>
          </p:blipFill>
          <p:spPr>
            <a:xfrm>
              <a:off x="3713040" y="4017960"/>
              <a:ext cx="24368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23 Forma libre"/>
            <p:cNvSpPr/>
            <p:nvPr/>
          </p:nvSpPr>
          <p:spPr>
            <a:xfrm>
              <a:off x="3831840" y="4111560"/>
              <a:ext cx="2200320" cy="28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4.183</a:t>
              </a:r>
              <a:r>
                <a:rPr b="0" lang="es-CO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 program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24 Grupo"/>
          <p:cNvGrpSpPr/>
          <p:nvPr/>
        </p:nvGrpSpPr>
        <p:grpSpPr>
          <a:xfrm>
            <a:off x="3713040" y="4950000"/>
            <a:ext cx="2436840" cy="687240"/>
            <a:chOff x="3713040" y="4950000"/>
            <a:chExt cx="2436840" cy="687240"/>
          </a:xfrm>
        </p:grpSpPr>
        <p:pic>
          <p:nvPicPr>
            <p:cNvPr id="836" name="25 Imagen" descr=""/>
            <p:cNvPicPr/>
            <p:nvPr/>
          </p:nvPicPr>
          <p:blipFill>
            <a:blip r:embed="rId5"/>
            <a:stretch/>
          </p:blipFill>
          <p:spPr>
            <a:xfrm>
              <a:off x="3713040" y="4950000"/>
              <a:ext cx="24368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26 Forma libre"/>
            <p:cNvSpPr/>
            <p:nvPr/>
          </p:nvSpPr>
          <p:spPr>
            <a:xfrm>
              <a:off x="3841560" y="5057640"/>
              <a:ext cx="2179800" cy="469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28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Municipios con oferta de E.S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27 Grupo"/>
          <p:cNvGrpSpPr/>
          <p:nvPr/>
        </p:nvGrpSpPr>
        <p:grpSpPr>
          <a:xfrm>
            <a:off x="3713040" y="3645000"/>
            <a:ext cx="2436840" cy="444240"/>
            <a:chOff x="3713040" y="3645000"/>
            <a:chExt cx="2436840" cy="444240"/>
          </a:xfrm>
        </p:grpSpPr>
        <p:pic>
          <p:nvPicPr>
            <p:cNvPr id="839" name="28 Imagen" descr=""/>
            <p:cNvPicPr/>
            <p:nvPr/>
          </p:nvPicPr>
          <p:blipFill>
            <a:blip r:embed="rId6"/>
            <a:stretch/>
          </p:blipFill>
          <p:spPr>
            <a:xfrm>
              <a:off x="3713040" y="3645000"/>
              <a:ext cx="24368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29 Forma libre"/>
            <p:cNvSpPr/>
            <p:nvPr/>
          </p:nvSpPr>
          <p:spPr>
            <a:xfrm>
              <a:off x="3830400" y="3738600"/>
              <a:ext cx="2202120" cy="257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273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 Rounded MT Bold"/>
                  <a:ea typeface="Microsoft YaHei"/>
                </a:rPr>
                <a:t> </a:t>
              </a:r>
              <a:r>
                <a:rPr b="0" lang="es-ES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IES principa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30 Grupo"/>
          <p:cNvGrpSpPr/>
          <p:nvPr/>
        </p:nvGrpSpPr>
        <p:grpSpPr>
          <a:xfrm>
            <a:off x="6377040" y="3876840"/>
            <a:ext cx="2795400" cy="468000"/>
            <a:chOff x="6377040" y="3876840"/>
            <a:chExt cx="2795400" cy="468000"/>
          </a:xfrm>
        </p:grpSpPr>
        <p:pic>
          <p:nvPicPr>
            <p:cNvPr id="842" name="31 Imagen" descr=""/>
            <p:cNvPicPr/>
            <p:nvPr/>
          </p:nvPicPr>
          <p:blipFill>
            <a:blip r:embed="rId7"/>
            <a:stretch/>
          </p:blipFill>
          <p:spPr>
            <a:xfrm>
              <a:off x="6377040" y="3876840"/>
              <a:ext cx="279540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32 Forma libre"/>
            <p:cNvSpPr/>
            <p:nvPr/>
          </p:nvSpPr>
          <p:spPr>
            <a:xfrm>
              <a:off x="6495840" y="3973680"/>
              <a:ext cx="2557440" cy="276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9.065</a:t>
              </a:r>
              <a:r>
                <a:rPr b="0" lang="es-CO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 program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33 Grupo"/>
          <p:cNvGrpSpPr/>
          <p:nvPr/>
        </p:nvGrpSpPr>
        <p:grpSpPr>
          <a:xfrm>
            <a:off x="6377040" y="3492360"/>
            <a:ext cx="2795400" cy="449280"/>
            <a:chOff x="6377040" y="3492360"/>
            <a:chExt cx="2795400" cy="449280"/>
          </a:xfrm>
        </p:grpSpPr>
        <p:pic>
          <p:nvPicPr>
            <p:cNvPr id="845" name="34 Imagen" descr=""/>
            <p:cNvPicPr/>
            <p:nvPr/>
          </p:nvPicPr>
          <p:blipFill>
            <a:blip r:embed="rId8"/>
            <a:stretch/>
          </p:blipFill>
          <p:spPr>
            <a:xfrm>
              <a:off x="6377040" y="3492360"/>
              <a:ext cx="279540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35 Forma libre"/>
            <p:cNvSpPr/>
            <p:nvPr/>
          </p:nvSpPr>
          <p:spPr>
            <a:xfrm>
              <a:off x="6494400" y="3587400"/>
              <a:ext cx="2560680" cy="263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288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 Rounded MT Bold"/>
                  <a:ea typeface="Microsoft YaHei"/>
                </a:rPr>
                <a:t> </a:t>
              </a:r>
              <a:r>
                <a:rPr b="0" lang="es-ES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IES principa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36 Forma libre"/>
          <p:cNvSpPr/>
          <p:nvPr/>
        </p:nvSpPr>
        <p:spPr>
          <a:xfrm>
            <a:off x="6337440" y="2163600"/>
            <a:ext cx="2733480" cy="640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Arial Rounded MT Bold"/>
                <a:ea typeface="Arial"/>
              </a:rPr>
              <a:t>11 años de la creación del Viceministerio de Educación Sup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37 Forma libre"/>
          <p:cNvSpPr/>
          <p:nvPr/>
        </p:nvSpPr>
        <p:spPr>
          <a:xfrm>
            <a:off x="3673440" y="2349360"/>
            <a:ext cx="2376360" cy="4590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Arial Rounded MT Bold"/>
                <a:ea typeface="Arial"/>
              </a:rPr>
              <a:t>Creación de CONACES mediante Decreto 2230/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38 Forma libre"/>
          <p:cNvSpPr/>
          <p:nvPr/>
        </p:nvSpPr>
        <p:spPr>
          <a:xfrm>
            <a:off x="936720" y="1981080"/>
            <a:ext cx="2448000" cy="640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Arial Rounded MT Bold"/>
                <a:ea typeface="Arial"/>
              </a:rPr>
              <a:t>Creación del CESU mediante Art. 34 Ley 30/92 y creación del CNA (Art. 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39 Grupo"/>
          <p:cNvGrpSpPr/>
          <p:nvPr/>
        </p:nvGrpSpPr>
        <p:grpSpPr>
          <a:xfrm>
            <a:off x="3713040" y="4443480"/>
            <a:ext cx="2436840" cy="577800"/>
            <a:chOff x="3713040" y="4443480"/>
            <a:chExt cx="2436840" cy="577800"/>
          </a:xfrm>
        </p:grpSpPr>
        <p:pic>
          <p:nvPicPr>
            <p:cNvPr id="851" name="40 Imagen" descr=""/>
            <p:cNvPicPr/>
            <p:nvPr/>
          </p:nvPicPr>
          <p:blipFill>
            <a:blip r:embed="rId9"/>
            <a:stretch/>
          </p:blipFill>
          <p:spPr>
            <a:xfrm>
              <a:off x="3713040" y="4443480"/>
              <a:ext cx="243684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41 Forma libre"/>
            <p:cNvSpPr/>
            <p:nvPr/>
          </p:nvSpPr>
          <p:spPr>
            <a:xfrm>
              <a:off x="3836880" y="4548240"/>
              <a:ext cx="2190960" cy="37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2</a:t>
              </a:r>
              <a:r>
                <a:rPr b="0" lang="es-CO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 IES acreditadas de alta calida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42 Grupo"/>
          <p:cNvGrpSpPr/>
          <p:nvPr/>
        </p:nvGrpSpPr>
        <p:grpSpPr>
          <a:xfrm>
            <a:off x="3713040" y="5595840"/>
            <a:ext cx="2436840" cy="723960"/>
            <a:chOff x="3713040" y="5595840"/>
            <a:chExt cx="2436840" cy="723960"/>
          </a:xfrm>
        </p:grpSpPr>
        <p:pic>
          <p:nvPicPr>
            <p:cNvPr id="854" name="43 Imagen" descr=""/>
            <p:cNvPicPr/>
            <p:nvPr/>
          </p:nvPicPr>
          <p:blipFill>
            <a:blip r:embed="rId10"/>
            <a:stretch/>
          </p:blipFill>
          <p:spPr>
            <a:xfrm>
              <a:off x="3713040" y="5595840"/>
              <a:ext cx="243684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44 Forma libre"/>
            <p:cNvSpPr/>
            <p:nvPr/>
          </p:nvSpPr>
          <p:spPr>
            <a:xfrm>
              <a:off x="3843000" y="5708520"/>
              <a:ext cx="2176560" cy="500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Rediseño conceptual del SNI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45 Grupo"/>
          <p:cNvGrpSpPr/>
          <p:nvPr/>
        </p:nvGrpSpPr>
        <p:grpSpPr>
          <a:xfrm>
            <a:off x="6377040" y="4280040"/>
            <a:ext cx="2795400" cy="814320"/>
            <a:chOff x="6377040" y="4280040"/>
            <a:chExt cx="2795400" cy="814320"/>
          </a:xfrm>
        </p:grpSpPr>
        <p:pic>
          <p:nvPicPr>
            <p:cNvPr id="857" name="46 Imagen" descr=""/>
            <p:cNvPicPr/>
            <p:nvPr/>
          </p:nvPicPr>
          <p:blipFill>
            <a:blip r:embed="rId11"/>
            <a:stretch/>
          </p:blipFill>
          <p:spPr>
            <a:xfrm>
              <a:off x="6377040" y="4280040"/>
              <a:ext cx="2795400" cy="8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47 Forma libre"/>
            <p:cNvSpPr/>
            <p:nvPr/>
          </p:nvSpPr>
          <p:spPr>
            <a:xfrm>
              <a:off x="6511680" y="4395960"/>
              <a:ext cx="2525760" cy="582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34</a:t>
              </a:r>
              <a:r>
                <a:rPr b="0" lang="en-US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 IES acreditadas de alta calida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48 Grupo"/>
          <p:cNvGrpSpPr/>
          <p:nvPr/>
        </p:nvGrpSpPr>
        <p:grpSpPr>
          <a:xfrm>
            <a:off x="6377040" y="4998960"/>
            <a:ext cx="2795400" cy="601920"/>
            <a:chOff x="6377040" y="4998960"/>
            <a:chExt cx="2795400" cy="601920"/>
          </a:xfrm>
        </p:grpSpPr>
        <p:pic>
          <p:nvPicPr>
            <p:cNvPr id="860" name="49 Imagen" descr=""/>
            <p:cNvPicPr/>
            <p:nvPr/>
          </p:nvPicPr>
          <p:blipFill>
            <a:blip r:embed="rId12"/>
            <a:stretch/>
          </p:blipFill>
          <p:spPr>
            <a:xfrm>
              <a:off x="6377040" y="4998960"/>
              <a:ext cx="279540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50 Forma libre"/>
            <p:cNvSpPr/>
            <p:nvPr/>
          </p:nvSpPr>
          <p:spPr>
            <a:xfrm>
              <a:off x="6502320" y="5106960"/>
              <a:ext cx="2544840" cy="387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300" spc="-1" strike="noStrike">
                  <a:solidFill>
                    <a:srgbClr val="cc0000"/>
                  </a:solidFill>
                  <a:latin typeface="Arial Rounded MT Bold"/>
                  <a:ea typeface="MS PGothic"/>
                </a:rPr>
                <a:t>879</a:t>
              </a:r>
              <a:r>
                <a:rPr b="0" lang="es-CO" sz="1300" spc="-1" strike="noStrike">
                  <a:solidFill>
                    <a:srgbClr val="0d0d0d"/>
                  </a:solidFill>
                  <a:latin typeface="Arial Rounded MT Bold"/>
                  <a:ea typeface="MS PGothic"/>
                </a:rPr>
                <a:t> programas acreditados de alta calida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51 Grupo"/>
          <p:cNvGrpSpPr/>
          <p:nvPr/>
        </p:nvGrpSpPr>
        <p:grpSpPr>
          <a:xfrm>
            <a:off x="6377040" y="5578560"/>
            <a:ext cx="2795400" cy="887400"/>
            <a:chOff x="6377040" y="5578560"/>
            <a:chExt cx="2795400" cy="887400"/>
          </a:xfrm>
        </p:grpSpPr>
        <p:pic>
          <p:nvPicPr>
            <p:cNvPr id="863" name="52 Imagen" descr=""/>
            <p:cNvPicPr/>
            <p:nvPr/>
          </p:nvPicPr>
          <p:blipFill>
            <a:blip r:embed="rId13"/>
            <a:stretch/>
          </p:blipFill>
          <p:spPr>
            <a:xfrm>
              <a:off x="6377040" y="5578560"/>
              <a:ext cx="279540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53 Forma libre"/>
            <p:cNvSpPr/>
            <p:nvPr/>
          </p:nvSpPr>
          <p:spPr>
            <a:xfrm>
              <a:off x="6514920" y="5695920"/>
              <a:ext cx="2517840" cy="64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Rounded MT Bold"/>
                  <a:ea typeface="MS PGothic"/>
                </a:rPr>
                <a:t>Consolidación de los Sistemas de Informació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37448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Academy Engraved LET"/>
              </a:rPr>
              <a:t>CAMBIOS MÁS SIGNIFICATIVOS EN REQUISITOS Y CONDICIONES PARA LA ACREDITACIÓN DE LAS INSTITUCIONES (2)</a:t>
            </a:r>
            <a:br>
              <a:rPr sz="2000"/>
            </a:br>
            <a:endParaRPr b="1" lang="en-US" sz="20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6840" y="2162160"/>
            <a:ext cx="842652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 partir de enero de 2015, la IES que inicie proceso deberá tener acreditados al menos el 25% de programas de pregrado y postgrado acreditables del conjunto de la IES, con independencia de su metodología presencial o a distancia (tradicional o virtual) o si se trata de una extensión. A partir de enero de 2019, será del 40%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IES multi-campus deberá tener programas acreditados en al menos el 75% de sus sedes o seccionales; al menos un 10% de los programas acreditables a partir de enero de 2015 y al menos 25% a partir del 1 de enero del 2019. En sedes o seccionales con menos de 10 programas, por lo menos 1 programa debe estar acreditado a partir de 2015. Los anteriores porcentajes se aplicarán al 100% de las sedes y seccionales a partir de enero de 201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54061"/>
                </a:solidFill>
                <a:latin typeface="Academy Engraved LET"/>
              </a:rPr>
              <a:t>PRINCIPALES CAMBIOS POR FACTOR</a:t>
            </a:r>
            <a:endParaRPr b="1" lang="en-US" sz="32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6092"/>
                </a:solidFill>
                <a:latin typeface="Academy Engraved LET"/>
              </a:rPr>
              <a:t>MISIÓN Y PROYECTO INSTITUCIONAL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06" name="Diagrama 3" descr=""/>
          <p:cNvPicPr/>
          <p:nvPr/>
        </p:nvPicPr>
        <p:blipFill>
          <a:blip r:embed="rId1"/>
          <a:stretch/>
        </p:blipFill>
        <p:spPr>
          <a:xfrm>
            <a:off x="244440" y="2000160"/>
            <a:ext cx="866772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6092"/>
                </a:solidFill>
                <a:latin typeface="Academy Engraved LET"/>
              </a:rPr>
              <a:t>ESTUDIANTES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08" name="Diagrama 3" descr=""/>
          <p:cNvPicPr/>
          <p:nvPr/>
        </p:nvPicPr>
        <p:blipFill>
          <a:blip r:embed="rId1"/>
          <a:stretch/>
        </p:blipFill>
        <p:spPr>
          <a:xfrm>
            <a:off x="158760" y="1962000"/>
            <a:ext cx="87170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6092"/>
                </a:solidFill>
                <a:latin typeface="Academy Engraved LET"/>
              </a:rPr>
              <a:t>PROFESORES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10" name="Diagrama 3" descr=""/>
          <p:cNvPicPr/>
          <p:nvPr/>
        </p:nvPicPr>
        <p:blipFill>
          <a:blip r:embed="rId1"/>
          <a:stretch/>
        </p:blipFill>
        <p:spPr>
          <a:xfrm>
            <a:off x="146160" y="2365200"/>
            <a:ext cx="8832600" cy="40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6092"/>
                </a:solidFill>
                <a:latin typeface="Academy Engraved LET"/>
              </a:rPr>
              <a:t>PROCESOS ACADÉMICOS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12" name="Diagrama 3" descr=""/>
          <p:cNvPicPr/>
          <p:nvPr/>
        </p:nvPicPr>
        <p:blipFill>
          <a:blip r:embed="rId1"/>
          <a:stretch/>
        </p:blipFill>
        <p:spPr>
          <a:xfrm>
            <a:off x="115920" y="2060640"/>
            <a:ext cx="875340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76092"/>
                </a:solidFill>
                <a:latin typeface="Academy Engraved LET"/>
              </a:rPr>
              <a:t>VISIBILIDAD NACIONAL E INTERNACIONAL</a:t>
            </a:r>
            <a:endParaRPr b="1" lang="en-US" sz="25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14" name="Diagrama 3" descr=""/>
          <p:cNvPicPr/>
          <p:nvPr/>
        </p:nvPicPr>
        <p:blipFill>
          <a:blip r:embed="rId1"/>
          <a:stretch/>
        </p:blipFill>
        <p:spPr>
          <a:xfrm>
            <a:off x="195120" y="2004840"/>
            <a:ext cx="871092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76092"/>
                </a:solidFill>
                <a:latin typeface="Academy Engraved LET"/>
              </a:rPr>
              <a:t>ALGUNOS CAMBIOS ESPECÍFICOS POR FACTORES</a:t>
            </a:r>
            <a:endParaRPr b="1" lang="en-US" sz="25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16" name="Diagrama 3" descr=""/>
          <p:cNvPicPr/>
          <p:nvPr/>
        </p:nvPicPr>
        <p:blipFill>
          <a:blip r:embed="rId1"/>
          <a:stretch/>
        </p:blipFill>
        <p:spPr>
          <a:xfrm>
            <a:off x="182520" y="1962000"/>
            <a:ext cx="869328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76092"/>
                </a:solidFill>
                <a:latin typeface="Academy Engraved LET"/>
              </a:rPr>
              <a:t>INVESTIGACIÓN Y CREACIÓN ARTÍSTICA Y CULTURAL</a:t>
            </a:r>
            <a:endParaRPr b="1" lang="en-US" sz="25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18" name="Diagrama 3" descr=""/>
          <p:cNvPicPr/>
          <p:nvPr/>
        </p:nvPicPr>
        <p:blipFill>
          <a:blip r:embed="rId1"/>
          <a:stretch/>
        </p:blipFill>
        <p:spPr>
          <a:xfrm>
            <a:off x="201600" y="2097000"/>
            <a:ext cx="877716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6092"/>
                </a:solidFill>
                <a:latin typeface="Academy Engraved LET"/>
              </a:rPr>
              <a:t>EVALUACIÓN Y AUTORREGULACIÓN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20" name="Diagrama 3" descr=""/>
          <p:cNvPicPr/>
          <p:nvPr/>
        </p:nvPicPr>
        <p:blipFill>
          <a:blip r:embed="rId1"/>
          <a:stretch/>
        </p:blipFill>
        <p:spPr>
          <a:xfrm>
            <a:off x="195120" y="1871640"/>
            <a:ext cx="869976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1 Imagen" descr=""/>
          <p:cNvPicPr/>
          <p:nvPr/>
        </p:nvPicPr>
        <p:blipFill>
          <a:blip r:embed="rId1"/>
          <a:srcRect l="0" t="0" r="0" b="76540"/>
          <a:stretch/>
        </p:blipFill>
        <p:spPr>
          <a:xfrm>
            <a:off x="-71280" y="-52560"/>
            <a:ext cx="9144000" cy="1609920"/>
          </a:xfrm>
          <a:prstGeom prst="rect">
            <a:avLst/>
          </a:prstGeom>
          <a:ln w="0">
            <a:noFill/>
          </a:ln>
        </p:spPr>
      </p:pic>
      <p:grpSp>
        <p:nvGrpSpPr>
          <p:cNvPr id="866" name="1 Título"/>
          <p:cNvGrpSpPr/>
          <p:nvPr/>
        </p:nvGrpSpPr>
        <p:grpSpPr>
          <a:xfrm>
            <a:off x="-122400" y="1109520"/>
            <a:ext cx="9315720" cy="463680"/>
            <a:chOff x="-122400" y="1109520"/>
            <a:chExt cx="9315720" cy="463680"/>
          </a:xfrm>
        </p:grpSpPr>
        <p:pic>
          <p:nvPicPr>
            <p:cNvPr id="867" name="1 Título" descr=""/>
            <p:cNvPicPr/>
            <p:nvPr/>
          </p:nvPicPr>
          <p:blipFill>
            <a:blip r:embed="rId2"/>
            <a:stretch/>
          </p:blipFill>
          <p:spPr>
            <a:xfrm>
              <a:off x="-122400" y="1109520"/>
              <a:ext cx="93157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-108000" y="1125360"/>
              <a:ext cx="9288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El ámbito de la Autonomía Univers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6 Grupo"/>
          <p:cNvGrpSpPr/>
          <p:nvPr/>
        </p:nvGrpSpPr>
        <p:grpSpPr>
          <a:xfrm>
            <a:off x="179280" y="1952640"/>
            <a:ext cx="8663040" cy="4711680"/>
            <a:chOff x="179280" y="1952640"/>
            <a:chExt cx="8663040" cy="4711680"/>
          </a:xfrm>
        </p:grpSpPr>
        <p:sp>
          <p:nvSpPr>
            <p:cNvPr id="870" name="Rectángulo redondeado 1"/>
            <p:cNvSpPr/>
            <p:nvPr/>
          </p:nvSpPr>
          <p:spPr>
            <a:xfrm>
              <a:off x="240480" y="1952640"/>
              <a:ext cx="8601840" cy="47116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CuadroTexto 13"/>
            <p:cNvSpPr/>
            <p:nvPr/>
          </p:nvSpPr>
          <p:spPr>
            <a:xfrm>
              <a:off x="1960200" y="2020320"/>
              <a:ext cx="48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Ámbito de la Autonomía Universita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ángulo redondeado 12"/>
            <p:cNvSpPr/>
            <p:nvPr/>
          </p:nvSpPr>
          <p:spPr>
            <a:xfrm>
              <a:off x="952920" y="2020680"/>
              <a:ext cx="7516440" cy="3346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lamada de flecha hacia arriba 22"/>
            <p:cNvSpPr/>
            <p:nvPr/>
          </p:nvSpPr>
          <p:spPr>
            <a:xfrm>
              <a:off x="1391040" y="6118200"/>
              <a:ext cx="802800" cy="477720"/>
            </a:xfrm>
            <a:prstGeom prst="upArrowCallout">
              <a:avLst>
                <a:gd name="adj1" fmla="val 51415"/>
                <a:gd name="adj2" fmla="val 25705"/>
                <a:gd name="adj3" fmla="val 25000"/>
                <a:gd name="adj4" fmla="val 7004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SA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lamada de flecha hacia arriba 23"/>
            <p:cNvSpPr/>
            <p:nvPr/>
          </p:nvSpPr>
          <p:spPr>
            <a:xfrm>
              <a:off x="2443320" y="6118200"/>
              <a:ext cx="804600" cy="477720"/>
            </a:xfrm>
            <a:prstGeom prst="upArrowCallout">
              <a:avLst>
                <a:gd name="adj1" fmla="val 51421"/>
                <a:gd name="adj2" fmla="val 25708"/>
                <a:gd name="adj3" fmla="val 25000"/>
                <a:gd name="adj4" fmla="val 7004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SN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lamada de flecha hacia arriba 24"/>
            <p:cNvSpPr/>
            <p:nvPr/>
          </p:nvSpPr>
          <p:spPr>
            <a:xfrm>
              <a:off x="3355920" y="6118200"/>
              <a:ext cx="804600" cy="477720"/>
            </a:xfrm>
            <a:prstGeom prst="upArrowCallout">
              <a:avLst>
                <a:gd name="adj1" fmla="val 51437"/>
                <a:gd name="adj2" fmla="val 25716"/>
                <a:gd name="adj3" fmla="val 25000"/>
                <a:gd name="adj4" fmla="val 7004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SPA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lamada de flecha hacia arriba 25"/>
            <p:cNvSpPr/>
            <p:nvPr/>
          </p:nvSpPr>
          <p:spPr>
            <a:xfrm>
              <a:off x="4269960" y="6118200"/>
              <a:ext cx="802800" cy="477720"/>
            </a:xfrm>
            <a:prstGeom prst="upArrowCallout">
              <a:avLst>
                <a:gd name="adj1" fmla="val 51415"/>
                <a:gd name="adj2" fmla="val 25705"/>
                <a:gd name="adj3" fmla="val 25000"/>
                <a:gd name="adj4" fmla="val 7004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lamada de flecha hacia arriba 26"/>
            <p:cNvSpPr/>
            <p:nvPr/>
          </p:nvSpPr>
          <p:spPr>
            <a:xfrm>
              <a:off x="5182560" y="6118200"/>
              <a:ext cx="804600" cy="477720"/>
            </a:xfrm>
            <a:prstGeom prst="upArrowCallout">
              <a:avLst>
                <a:gd name="adj1" fmla="val 51421"/>
                <a:gd name="adj2" fmla="val 25708"/>
                <a:gd name="adj3" fmla="val 25000"/>
                <a:gd name="adj4" fmla="val 7004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C&amp;CETE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lamada de flecha hacia arriba 27"/>
            <p:cNvSpPr/>
            <p:nvPr/>
          </p:nvSpPr>
          <p:spPr>
            <a:xfrm>
              <a:off x="6236640" y="6118200"/>
              <a:ext cx="802800" cy="477720"/>
            </a:xfrm>
            <a:prstGeom prst="upArrowCallout">
              <a:avLst>
                <a:gd name="adj1" fmla="val 51415"/>
                <a:gd name="adj2" fmla="val 25705"/>
                <a:gd name="adj3" fmla="val 25000"/>
                <a:gd name="adj4" fmla="val 7004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Scien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lamada de flecha hacia arriba 28"/>
            <p:cNvSpPr/>
            <p:nvPr/>
          </p:nvSpPr>
          <p:spPr>
            <a:xfrm>
              <a:off x="7288560" y="6118200"/>
              <a:ext cx="804600" cy="477720"/>
            </a:xfrm>
            <a:prstGeom prst="upArrowCallout">
              <a:avLst>
                <a:gd name="adj1" fmla="val 51437"/>
                <a:gd name="adj2" fmla="val 25716"/>
                <a:gd name="adj3" fmla="val 25000"/>
                <a:gd name="adj4" fmla="val 7004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SA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0" name="CuadroTexto 3" descr=""/>
            <p:cNvPicPr/>
            <p:nvPr/>
          </p:nvPicPr>
          <p:blipFill>
            <a:blip r:embed="rId3"/>
            <a:stretch/>
          </p:blipFill>
          <p:spPr>
            <a:xfrm>
              <a:off x="179280" y="2444400"/>
              <a:ext cx="865080" cy="374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1" name="Agrupar 29"/>
            <p:cNvGrpSpPr/>
            <p:nvPr/>
          </p:nvGrpSpPr>
          <p:grpSpPr>
            <a:xfrm>
              <a:off x="814320" y="2225160"/>
              <a:ext cx="7444440" cy="888480"/>
              <a:chOff x="814320" y="2225160"/>
              <a:chExt cx="7444440" cy="888480"/>
            </a:xfrm>
          </p:grpSpPr>
          <p:sp>
            <p:nvSpPr>
              <p:cNvPr id="882" name="Flecha derecha 30"/>
              <p:cNvSpPr/>
              <p:nvPr/>
            </p:nvSpPr>
            <p:spPr>
              <a:xfrm>
                <a:off x="1068480" y="2225160"/>
                <a:ext cx="7190280" cy="888480"/>
              </a:xfrm>
              <a:prstGeom prst="rightArrow">
                <a:avLst>
                  <a:gd name="adj1" fmla="val 50000"/>
                  <a:gd name="adj2" fmla="val 94453"/>
                </a:avLst>
              </a:prstGeom>
              <a:gradFill rotWithShape="0">
                <a:gsLst>
                  <a:gs pos="0">
                    <a:srgbClr val="c00000"/>
                  </a:gs>
                  <a:gs pos="100000">
                    <a:srgbClr val="009900"/>
                  </a:gs>
                </a:gsLst>
                <a:lin ang="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Calibri"/>
                  </a:rPr>
                  <a:t>Modelo Interno de Aseguramiento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Calibri"/>
                  </a:rPr>
                  <a:t>de la Calid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3" name="Proceso alternativo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814320" y="2493000"/>
                <a:ext cx="199944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Proceso alternativo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6073560" y="2462400"/>
                <a:ext cx="2023560" cy="464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5" name="Agrupar 33" descr=""/>
            <p:cNvPicPr/>
            <p:nvPr/>
          </p:nvPicPr>
          <p:blipFill>
            <a:blip r:embed="rId6"/>
            <a:stretch/>
          </p:blipFill>
          <p:spPr>
            <a:xfrm>
              <a:off x="977400" y="2871000"/>
              <a:ext cx="7331400" cy="10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Rectángulo redondeado 5"/>
            <p:cNvSpPr/>
            <p:nvPr/>
          </p:nvSpPr>
          <p:spPr>
            <a:xfrm>
              <a:off x="1094400" y="3795840"/>
              <a:ext cx="1686960" cy="1434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rt. 67 C.P. 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“Corresponde al Estado regular y ejercer la suprema inspección y vigilancia de la educación…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ángulo redondeado 39"/>
            <p:cNvSpPr/>
            <p:nvPr/>
          </p:nvSpPr>
          <p:spPr>
            <a:xfrm>
              <a:off x="6642720" y="3865680"/>
              <a:ext cx="1685160" cy="1365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rt. 69 C.P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“</a:t>
              </a:r>
              <a:r>
                <a:rPr b="1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 garantiza la autonomía universitaria. Las universidades podrán darse sus propias directivas… de acuerdo con la ley…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lecha izquierda y derecha 11"/>
            <p:cNvSpPr/>
            <p:nvPr/>
          </p:nvSpPr>
          <p:spPr>
            <a:xfrm>
              <a:off x="2919600" y="3727440"/>
              <a:ext cx="3583440" cy="1639800"/>
            </a:xfrm>
            <a:prstGeom prst="leftRightArrow">
              <a:avLst>
                <a:gd name="adj1" fmla="val 50000"/>
                <a:gd name="adj2" fmla="val 51415"/>
              </a:avLst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ven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l Es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IES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Más 16"/>
            <p:cNvSpPr/>
            <p:nvPr/>
          </p:nvSpPr>
          <p:spPr>
            <a:xfrm>
              <a:off x="3132000" y="4205160"/>
              <a:ext cx="631440" cy="684000"/>
            </a:xfrm>
            <a:custGeom>
              <a:avLst/>
              <a:gdLst/>
              <a:ahLst/>
              <a:rect l="l" t="t" r="r" b="b"/>
              <a:pathLst>
                <a:path w="647637" h="721327">
                  <a:moveTo>
                    <a:pt x="85844" y="284501"/>
                  </a:moveTo>
                  <a:lnTo>
                    <a:pt x="247656" y="284501"/>
                  </a:lnTo>
                  <a:lnTo>
                    <a:pt x="247656" y="95612"/>
                  </a:lnTo>
                  <a:lnTo>
                    <a:pt x="399981" y="95612"/>
                  </a:lnTo>
                  <a:lnTo>
                    <a:pt x="399981" y="284501"/>
                  </a:lnTo>
                  <a:lnTo>
                    <a:pt x="561793" y="284501"/>
                  </a:lnTo>
                  <a:lnTo>
                    <a:pt x="561793" y="436826"/>
                  </a:lnTo>
                  <a:lnTo>
                    <a:pt x="399981" y="436826"/>
                  </a:lnTo>
                  <a:lnTo>
                    <a:pt x="399981" y="625715"/>
                  </a:lnTo>
                  <a:lnTo>
                    <a:pt x="247656" y="625715"/>
                  </a:lnTo>
                  <a:lnTo>
                    <a:pt x="247656" y="436826"/>
                  </a:lnTo>
                  <a:lnTo>
                    <a:pt x="85844" y="436826"/>
                  </a:lnTo>
                  <a:lnTo>
                    <a:pt x="85844" y="284501"/>
                  </a:lnTo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Menos 17"/>
            <p:cNvSpPr/>
            <p:nvPr/>
          </p:nvSpPr>
          <p:spPr>
            <a:xfrm>
              <a:off x="5730120" y="4275000"/>
              <a:ext cx="561600" cy="614160"/>
            </a:xfrm>
            <a:custGeom>
              <a:avLst/>
              <a:gdLst/>
              <a:ahLst/>
              <a:rect l="l" t="t" r="r" b="b"/>
              <a:pathLst>
                <a:path w="576039" h="647688">
                  <a:moveTo>
                    <a:pt x="76354" y="247676"/>
                  </a:moveTo>
                  <a:lnTo>
                    <a:pt x="499685" y="247676"/>
                  </a:lnTo>
                  <a:lnTo>
                    <a:pt x="499685" y="400012"/>
                  </a:lnTo>
                  <a:lnTo>
                    <a:pt x="76354" y="400012"/>
                  </a:lnTo>
                  <a:lnTo>
                    <a:pt x="76354" y="247676"/>
                  </a:lnTo>
                  <a:close/>
                </a:path>
              </a:pathLst>
            </a:custGeom>
            <a:solidFill>
              <a:srgbClr val="009900"/>
            </a:solidFill>
            <a:ln w="255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69 Rectángulo redondeado"/>
            <p:cNvSpPr/>
            <p:nvPr/>
          </p:nvSpPr>
          <p:spPr>
            <a:xfrm>
              <a:off x="1305360" y="5435640"/>
              <a:ext cx="6787800" cy="307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ación y evaluación perman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70 Rectángulo redondeado"/>
            <p:cNvSpPr/>
            <p:nvPr/>
          </p:nvSpPr>
          <p:spPr>
            <a:xfrm>
              <a:off x="1321200" y="5808600"/>
              <a:ext cx="6787800" cy="309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mento pertin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6092"/>
                </a:solidFill>
                <a:latin typeface="Academy Engraved LET"/>
              </a:rPr>
              <a:t>BIENESTAR INSTITUCIONAL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22" name="Diagrama 3" descr=""/>
          <p:cNvPicPr/>
          <p:nvPr/>
        </p:nvPicPr>
        <p:blipFill>
          <a:blip r:embed="rId1"/>
          <a:stretch/>
        </p:blipFill>
        <p:spPr>
          <a:xfrm>
            <a:off x="195120" y="1962000"/>
            <a:ext cx="871092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76092"/>
                </a:solidFill>
                <a:latin typeface="Academy Engraved LET"/>
              </a:rPr>
              <a:t>ORGANIZACIÓN, GESTIÓN Y ADMINISTRACIÓN</a:t>
            </a:r>
            <a:endParaRPr b="1" lang="en-US" sz="25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24" name="Diagrama 3" descr=""/>
          <p:cNvPicPr/>
          <p:nvPr/>
        </p:nvPicPr>
        <p:blipFill>
          <a:blip r:embed="rId1"/>
          <a:stretch/>
        </p:blipFill>
        <p:spPr>
          <a:xfrm>
            <a:off x="195120" y="1962000"/>
            <a:ext cx="881568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76092"/>
                </a:solidFill>
                <a:latin typeface="Academy Engraved LET"/>
              </a:rPr>
              <a:t>ORGANIZACIÓN, GESTIÓN Y ADMINISTRACIÓN</a:t>
            </a:r>
            <a:endParaRPr b="1" lang="en-US" sz="25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26" name="Diagrama 3" descr=""/>
          <p:cNvPicPr/>
          <p:nvPr/>
        </p:nvPicPr>
        <p:blipFill>
          <a:blip r:embed="rId1"/>
          <a:stretch/>
        </p:blipFill>
        <p:spPr>
          <a:xfrm>
            <a:off x="195120" y="1841400"/>
            <a:ext cx="8740800" cy="47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28088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6092"/>
                </a:solidFill>
                <a:latin typeface="Academy Engraved LET"/>
              </a:rPr>
              <a:t>RECURSOS FINANCIEROS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1028" name="Diagrama 3" descr=""/>
          <p:cNvPicPr/>
          <p:nvPr/>
        </p:nvPicPr>
        <p:blipFill>
          <a:blip r:embed="rId1"/>
          <a:stretch/>
        </p:blipFill>
        <p:spPr>
          <a:xfrm>
            <a:off x="195120" y="1962000"/>
            <a:ext cx="871704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36280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b4da4"/>
                </a:solidFill>
                <a:latin typeface="Academy Engraved LET"/>
              </a:rPr>
              <a:t>MUCHAS GRACIAS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1b4da4"/>
              </a:solidFill>
              <a:latin typeface="Academy Engraved LET"/>
            </a:endParaRPr>
          </a:p>
        </p:txBody>
      </p:sp>
      <p:sp>
        <p:nvSpPr>
          <p:cNvPr id="10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1B38-65E9-4B5A-90B1-795DC5D631D2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1 Imagen" descr=""/>
          <p:cNvPicPr/>
          <p:nvPr/>
        </p:nvPicPr>
        <p:blipFill>
          <a:blip r:embed="rId1"/>
          <a:srcRect l="0" t="0" r="0" b="76540"/>
          <a:stretch/>
        </p:blipFill>
        <p:spPr>
          <a:xfrm>
            <a:off x="-34920" y="19080"/>
            <a:ext cx="9144000" cy="1609560"/>
          </a:xfrm>
          <a:prstGeom prst="rect">
            <a:avLst/>
          </a:prstGeom>
          <a:ln w="0">
            <a:noFill/>
          </a:ln>
        </p:spPr>
      </p:pic>
      <p:sp>
        <p:nvSpPr>
          <p:cNvPr id="894" name="90 Rectángulo"/>
          <p:cNvSpPr/>
          <p:nvPr/>
        </p:nvSpPr>
        <p:spPr>
          <a:xfrm>
            <a:off x="3943440" y="3720960"/>
            <a:ext cx="3611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ctr">
            <a:norm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1 CuadroTexto"/>
          <p:cNvSpPr/>
          <p:nvPr/>
        </p:nvSpPr>
        <p:spPr>
          <a:xfrm>
            <a:off x="5076720" y="663480"/>
            <a:ext cx="3959280" cy="45972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Sistemas de Inform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4 Rectángulo"/>
          <p:cNvSpPr/>
          <p:nvPr/>
        </p:nvSpPr>
        <p:spPr>
          <a:xfrm>
            <a:off x="347760" y="1413000"/>
            <a:ext cx="243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5 Grupo"/>
          <p:cNvGrpSpPr/>
          <p:nvPr/>
        </p:nvGrpSpPr>
        <p:grpSpPr>
          <a:xfrm>
            <a:off x="576360" y="2449440"/>
            <a:ext cx="2520720" cy="576360"/>
            <a:chOff x="576360" y="2449440"/>
            <a:chExt cx="2520720" cy="576360"/>
          </a:xfrm>
        </p:grpSpPr>
        <p:sp>
          <p:nvSpPr>
            <p:cNvPr id="898" name="19 Rectángulo redondeado"/>
            <p:cNvSpPr/>
            <p:nvPr/>
          </p:nvSpPr>
          <p:spPr>
            <a:xfrm>
              <a:off x="576360" y="2449440"/>
              <a:ext cx="2520720" cy="576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8 Rectángulo"/>
            <p:cNvSpPr/>
            <p:nvPr/>
          </p:nvSpPr>
          <p:spPr>
            <a:xfrm>
              <a:off x="620640" y="2477880"/>
              <a:ext cx="243216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9 Grupo"/>
          <p:cNvGrpSpPr/>
          <p:nvPr/>
        </p:nvGrpSpPr>
        <p:grpSpPr>
          <a:xfrm>
            <a:off x="4178160" y="2198520"/>
            <a:ext cx="3745080" cy="936720"/>
            <a:chOff x="4178160" y="2198520"/>
            <a:chExt cx="3745080" cy="936720"/>
          </a:xfrm>
        </p:grpSpPr>
        <p:sp>
          <p:nvSpPr>
            <p:cNvPr id="901" name="22 Rectángulo redondeado"/>
            <p:cNvSpPr/>
            <p:nvPr/>
          </p:nvSpPr>
          <p:spPr>
            <a:xfrm>
              <a:off x="4178160" y="2198520"/>
              <a:ext cx="3745080" cy="9367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23 Rectángulo"/>
            <p:cNvSpPr/>
            <p:nvPr/>
          </p:nvSpPr>
          <p:spPr>
            <a:xfrm>
              <a:off x="4244400" y="2244240"/>
              <a:ext cx="3612240" cy="84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7 Grupo"/>
          <p:cNvGrpSpPr/>
          <p:nvPr/>
        </p:nvGrpSpPr>
        <p:grpSpPr>
          <a:xfrm>
            <a:off x="368280" y="4506840"/>
            <a:ext cx="3527280" cy="576360"/>
            <a:chOff x="368280" y="4506840"/>
            <a:chExt cx="3527280" cy="576360"/>
          </a:xfrm>
        </p:grpSpPr>
        <p:sp>
          <p:nvSpPr>
            <p:cNvPr id="904" name="25 Rectángulo redondeado"/>
            <p:cNvSpPr/>
            <p:nvPr/>
          </p:nvSpPr>
          <p:spPr>
            <a:xfrm>
              <a:off x="368280" y="4506840"/>
              <a:ext cx="3527280" cy="5763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26 Rectángulo"/>
            <p:cNvSpPr/>
            <p:nvPr/>
          </p:nvSpPr>
          <p:spPr>
            <a:xfrm>
              <a:off x="430920" y="4534920"/>
              <a:ext cx="340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24 Flecha abajo"/>
          <p:cNvSpPr/>
          <p:nvPr/>
        </p:nvSpPr>
        <p:spPr>
          <a:xfrm rot="16200000">
            <a:off x="3502440" y="255924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1 CuadroTexto"/>
          <p:cNvSpPr/>
          <p:nvPr/>
        </p:nvSpPr>
        <p:spPr>
          <a:xfrm>
            <a:off x="498600" y="3067200"/>
            <a:ext cx="25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ONDICIONES DE 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21 CuadroTexto"/>
          <p:cNvSpPr/>
          <p:nvPr/>
        </p:nvSpPr>
        <p:spPr>
          <a:xfrm>
            <a:off x="4221000" y="3330720"/>
            <a:ext cx="37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ONDICIONES DE ACCESO (COBER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22 CuadroTexto"/>
          <p:cNvSpPr/>
          <p:nvPr/>
        </p:nvSpPr>
        <p:spPr>
          <a:xfrm>
            <a:off x="4643280" y="5241960"/>
            <a:ext cx="371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ONDICIONES DE PERMAN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24 CuadroTexto"/>
          <p:cNvSpPr/>
          <p:nvPr/>
        </p:nvSpPr>
        <p:spPr>
          <a:xfrm>
            <a:off x="770040" y="5381640"/>
            <a:ext cx="285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ONDICIONES DE PERTIN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23 Flecha curvada hacia la izquierda"/>
          <p:cNvSpPr/>
          <p:nvPr/>
        </p:nvSpPr>
        <p:spPr>
          <a:xfrm>
            <a:off x="8101080" y="2478240"/>
            <a:ext cx="934920" cy="2331720"/>
          </a:xfrm>
          <a:custGeom>
            <a:avLst/>
            <a:gdLst>
              <a:gd name="textAreaLeft" fmla="*/ 125280 w 934920"/>
              <a:gd name="textAreaRight" fmla="*/ 809640 w 934920"/>
              <a:gd name="textAreaTop" fmla="*/ 495000 h 2331720"/>
              <a:gd name="textAreaBottom" fmla="*/ 1719720 h 23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76" stAng="-5400000" swAng="5400000"/>
                <a:lnTo>
                  <a:pt x="21600" y="11342"/>
                </a:lnTo>
                <a:arcTo wR="21600" hR="9176" stAng="0" swAng="3522547"/>
                <a:lnTo>
                  <a:pt x="5400" y="21309"/>
                </a:lnTo>
                <a:lnTo>
                  <a:pt x="0" y="19435"/>
                </a:lnTo>
                <a:lnTo>
                  <a:pt x="5400" y="16979"/>
                </a:lnTo>
                <a:lnTo>
                  <a:pt x="5400" y="18061"/>
                </a:lnTo>
                <a:arcTo wR="21600" hR="9176" stAng="3522547" swAng="-3349116"/>
                <a:lnTo>
                  <a:pt x="21449" y="10259"/>
                </a:lnTo>
                <a:arcTo wR="21600" hR="9176" stAng="-173431" swAng="-5226569"/>
                <a:close/>
              </a:path>
              <a:path fill="darkenLess" w="21600" h="21600">
                <a:moveTo>
                  <a:pt x="0" y="0"/>
                </a:moveTo>
                <a:arcTo wR="21600" hR="9176" stAng="-5400000" swAng="5400000"/>
                <a:lnTo>
                  <a:pt x="21600" y="11342"/>
                </a:lnTo>
                <a:arcTo wR="21600" hR="9176" stAng="0" swAng="-173431"/>
                <a:lnTo>
                  <a:pt x="21449" y="10259"/>
                </a:lnTo>
                <a:arcTo wR="21600" hR="9176" stAng="-173431" swAng="-522656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24 Flecha izquierda"/>
          <p:cNvSpPr/>
          <p:nvPr/>
        </p:nvSpPr>
        <p:spPr>
          <a:xfrm>
            <a:off x="4186080" y="4572000"/>
            <a:ext cx="365400" cy="4064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7"/>
          <p:cNvSpPr/>
          <p:nvPr/>
        </p:nvSpPr>
        <p:spPr>
          <a:xfrm>
            <a:off x="430200" y="1347840"/>
            <a:ext cx="8389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1f28"/>
                </a:solidFill>
                <a:latin typeface="Calibri"/>
                <a:ea typeface="Arial"/>
              </a:rPr>
              <a:t>Cultura de la Evaluación 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26 Flecha arriba"/>
          <p:cNvSpPr/>
          <p:nvPr/>
        </p:nvSpPr>
        <p:spPr>
          <a:xfrm>
            <a:off x="1889280" y="3774960"/>
            <a:ext cx="306360" cy="446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27 Grupo"/>
          <p:cNvGrpSpPr/>
          <p:nvPr/>
        </p:nvGrpSpPr>
        <p:grpSpPr>
          <a:xfrm>
            <a:off x="4869000" y="4572000"/>
            <a:ext cx="3530520" cy="576360"/>
            <a:chOff x="4869000" y="4572000"/>
            <a:chExt cx="3530520" cy="576360"/>
          </a:xfrm>
        </p:grpSpPr>
        <p:sp>
          <p:nvSpPr>
            <p:cNvPr id="916" name="28 Rectángulo redondeado"/>
            <p:cNvSpPr/>
            <p:nvPr/>
          </p:nvSpPr>
          <p:spPr>
            <a:xfrm>
              <a:off x="4869000" y="4572000"/>
              <a:ext cx="3530520" cy="5763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29 Rectángulo"/>
            <p:cNvSpPr/>
            <p:nvPr/>
          </p:nvSpPr>
          <p:spPr>
            <a:xfrm>
              <a:off x="4931640" y="4600080"/>
              <a:ext cx="340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148680" bIns="148680" anchor="ctr">
              <a:norm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D074-45CE-4701-8284-F775B1DD1FFE}" type="slidenum"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Gráfico 3" descr=""/>
          <p:cNvPicPr/>
          <p:nvPr/>
        </p:nvPicPr>
        <p:blipFill>
          <a:blip r:embed="rId1"/>
          <a:stretch/>
        </p:blipFill>
        <p:spPr>
          <a:xfrm>
            <a:off x="438120" y="438120"/>
            <a:ext cx="8420040" cy="4762440"/>
          </a:xfrm>
          <a:prstGeom prst="rect">
            <a:avLst/>
          </a:prstGeom>
          <a:ln w="0">
            <a:noFill/>
          </a:ln>
        </p:spPr>
      </p:pic>
      <p:sp>
        <p:nvSpPr>
          <p:cNvPr id="920" name="Rectángulo 4"/>
          <p:cNvSpPr/>
          <p:nvPr/>
        </p:nvSpPr>
        <p:spPr>
          <a:xfrm>
            <a:off x="355680" y="5383080"/>
            <a:ext cx="62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Fuente: SACES febrero 22 de  2015 y CNA Información con corte a enero de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ángulo 3"/>
          <p:cNvSpPr/>
          <p:nvPr/>
        </p:nvSpPr>
        <p:spPr>
          <a:xfrm>
            <a:off x="201600" y="5491080"/>
            <a:ext cx="65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Fuente: SACES febrero 22 de  2015 y CNA Información con corte 29 de enero de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Gráfico 3" descr=""/>
          <p:cNvPicPr/>
          <p:nvPr/>
        </p:nvPicPr>
        <p:blipFill>
          <a:blip r:embed="rId1"/>
          <a:stretch/>
        </p:blipFill>
        <p:spPr>
          <a:xfrm>
            <a:off x="212760" y="255600"/>
            <a:ext cx="877896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760" y="1476360"/>
            <a:ext cx="905976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b4da4"/>
                </a:solidFill>
                <a:latin typeface="Academy Engraved LET"/>
              </a:rPr>
              <a:t>ACREDITACIÓN DE PROGRAMAS DE PREGRADO 1998 - 2014</a:t>
            </a:r>
            <a:endParaRPr b="1" lang="en-US" sz="2800" spc="-1" strike="noStrike">
              <a:solidFill>
                <a:srgbClr val="1b4da4"/>
              </a:solidFill>
              <a:latin typeface="Academy Engraved LET"/>
            </a:endParaRPr>
          </a:p>
        </p:txBody>
      </p:sp>
      <p:pic>
        <p:nvPicPr>
          <p:cNvPr id="924" name="Imagen 4" descr=""/>
          <p:cNvPicPr/>
          <p:nvPr/>
        </p:nvPicPr>
        <p:blipFill>
          <a:blip r:embed="rId1"/>
          <a:stretch/>
        </p:blipFill>
        <p:spPr>
          <a:xfrm>
            <a:off x="490680" y="2190600"/>
            <a:ext cx="8026200" cy="4478400"/>
          </a:xfrm>
          <a:prstGeom prst="rect">
            <a:avLst/>
          </a:prstGeom>
          <a:ln w="0">
            <a:noFill/>
          </a:ln>
        </p:spPr>
      </p:pic>
      <p:sp>
        <p:nvSpPr>
          <p:cNvPr id="925" name="Rectángulo 5"/>
          <p:cNvSpPr/>
          <p:nvPr/>
        </p:nvSpPr>
        <p:spPr>
          <a:xfrm>
            <a:off x="8348760" y="4437000"/>
            <a:ext cx="49032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CuadroTexto 1"/>
          <p:cNvSpPr/>
          <p:nvPr/>
        </p:nvSpPr>
        <p:spPr>
          <a:xfrm>
            <a:off x="684360" y="476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ACREDITADOS  Y PROGRAMAS CON REGISTRO ACTIVO SIN ACREDITACIÓN EN LA U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1979640" y="1557360"/>
          <a:ext cx="5432400" cy="3632040"/>
        </p:xfrm>
        <a:graphic>
          <a:graphicData uri="http://schemas.openxmlformats.org/drawingml/2006/table">
            <a:tbl>
              <a:tblPr/>
              <a:tblGrid>
                <a:gridCol w="2313000"/>
                <a:gridCol w="1558800"/>
                <a:gridCol w="1560600"/>
              </a:tblGrid>
              <a:tr h="716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S U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99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redi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71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acredi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reditación Venc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71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gistro Cal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41520"/>
                          <a:tab algn="l" pos="1282680"/>
                          <a:tab algn="l" pos="1924200"/>
                          <a:tab algn="l" pos="2565360"/>
                          <a:tab algn="l" pos="3206880"/>
                          <a:tab algn="l" pos="3848040"/>
                          <a:tab algn="l" pos="4489560"/>
                          <a:tab algn="l" pos="5130720"/>
                          <a:tab algn="l" pos="5772240"/>
                          <a:tab algn="l" pos="6413400"/>
                          <a:tab algn="l" pos="7054920"/>
                          <a:tab algn="l" pos="7696080"/>
                          <a:tab algn="l" pos="8337600"/>
                          <a:tab algn="l" pos="8978760"/>
                          <a:tab algn="l" pos="9620280"/>
                          <a:tab algn="l" pos="10261440"/>
                          <a:tab algn="l" pos="1090296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5T15:14:41Z</dcterms:created>
  <dc:creator>ftellez</dc:creator>
  <dc:description/>
  <dc:language>en-US</dc:language>
  <cp:lastModifiedBy>Usuario UTP</cp:lastModifiedBy>
  <cp:lastPrinted>2012-08-22T19:28:43Z</cp:lastPrinted>
  <dcterms:modified xsi:type="dcterms:W3CDTF">2015-04-30T12:39:09Z</dcterms:modified>
  <cp:revision>120</cp:revision>
  <dc:subject/>
  <dc:title>Presentación de PowerPoint</dc:title>
</cp:coreProperties>
</file>